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C0F-6D71-467C-A30D-A36706FF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E0B-C2C0-471C-A975-E3952AB2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EE9-3B59-443E-966A-7F0EEAE3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0F2-6F72-4F40-894A-ED3ADD8B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7D2-6475-4CD8-87F4-70D9846F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9BBE-F8E7-4660-8B65-801EDC28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043C-8517-4F95-B302-C3FE295C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0E0-F929-41DB-9A22-45F8F996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B85-64C5-4FDD-A967-068BC7B0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4EC-634E-43BC-8106-EA964512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34E-A4F1-42F7-B152-D365DB43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850-13F7-422C-AE64-13DE42BA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1A89-5E6C-4826-90FB-8FDFEDF22D4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T Ma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1116000" y="2227320"/>
            <a:ext cx="860400" cy="69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149400" y="133200"/>
            <a:ext cx="8847000" cy="180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A variabl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P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inversely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oportional to a variabl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2,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36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rite a formula which links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, in the form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P </a:t>
            </a:r>
            <a:r>
              <a:rPr b="0" lang="en-GB" sz="2200" spc="-1" strike="noStrike">
                <a:solidFill>
                  <a:srgbClr val="0000cc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Find the value of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when A  is 2.5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19160" y="103320"/>
            <a:ext cx="8907480" cy="65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1487520" y="2876400"/>
            <a:ext cx="152280" cy="777960"/>
          </a:xfrm>
          <a:prstGeom prst="upArrow">
            <a:avLst>
              <a:gd name="adj1" fmla="val 50000"/>
              <a:gd name="adj2" fmla="val 127719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705600" y="3546360"/>
            <a:ext cx="211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Invers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Propor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673200" y="23288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1184400" y="2513160"/>
            <a:ext cx="282600" cy="193680"/>
          </a:xfrm>
          <a:custGeom>
            <a:avLst/>
            <a:gdLst>
              <a:gd name="textAreaLeft" fmla="*/ 0 w 282600"/>
              <a:gd name="textAreaRight" fmla="*/ 282960 w 282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585800" y="2281320"/>
            <a:ext cx="362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9"/>
          <p:cNvSpPr/>
          <p:nvPr/>
        </p:nvSpPr>
        <p:spPr>
          <a:xfrm>
            <a:off x="1663560" y="25844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2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2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2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12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12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2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12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12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2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12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12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2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T Ma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9400" y="133200"/>
            <a:ext cx="8847000" cy="180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A variabl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P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inversely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oportional to a variabl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2,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36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rite a formula which links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, in the form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P </a:t>
            </a:r>
            <a:r>
              <a:rPr b="0" lang="en-GB" sz="2200" spc="-1" strike="noStrike">
                <a:solidFill>
                  <a:srgbClr val="0000cc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Find the value of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when A  is 2.5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19160" y="103320"/>
            <a:ext cx="8907480" cy="65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673200" y="23288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1184400" y="2513160"/>
            <a:ext cx="282600" cy="193680"/>
          </a:xfrm>
          <a:custGeom>
            <a:avLst/>
            <a:gdLst>
              <a:gd name="textAreaLeft" fmla="*/ 0 w 282600"/>
              <a:gd name="textAreaRight" fmla="*/ 282960 w 282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585800" y="2281320"/>
            <a:ext cx="362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1663560" y="25844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673200" y="298296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817640" y="2935440"/>
            <a:ext cx="362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1895400" y="32385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1039680" y="29844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1397160" y="2984400"/>
            <a:ext cx="23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1631880" y="2989440"/>
            <a:ext cx="249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19"/>
          <p:cNvSpPr/>
          <p:nvPr/>
        </p:nvSpPr>
        <p:spPr>
          <a:xfrm>
            <a:off x="1467000" y="3470400"/>
            <a:ext cx="152280" cy="777600"/>
          </a:xfrm>
          <a:prstGeom prst="upArrow">
            <a:avLst>
              <a:gd name="adj1" fmla="val 50000"/>
              <a:gd name="adj2" fmla="val 12766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912960" y="4213080"/>
            <a:ext cx="251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Proportion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T Ma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149400" y="133200"/>
            <a:ext cx="8847000" cy="180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A variabl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P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inversely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oportional to a variabl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2,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36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rite a formula which links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, in the form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P </a:t>
            </a:r>
            <a:r>
              <a:rPr b="0" lang="en-GB" sz="2200" spc="-1" strike="noStrike">
                <a:solidFill>
                  <a:srgbClr val="0000cc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Find the value of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when A  is 2.5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19160" y="103320"/>
            <a:ext cx="8907480" cy="65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73200" y="23288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reeform 5"/>
          <p:cNvSpPr/>
          <p:nvPr/>
        </p:nvSpPr>
        <p:spPr>
          <a:xfrm>
            <a:off x="1184400" y="2513160"/>
            <a:ext cx="282600" cy="193680"/>
          </a:xfrm>
          <a:custGeom>
            <a:avLst/>
            <a:gdLst>
              <a:gd name="textAreaLeft" fmla="*/ 0 w 282600"/>
              <a:gd name="textAreaRight" fmla="*/ 282960 w 282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585800" y="2281320"/>
            <a:ext cx="362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7"/>
          <p:cNvSpPr/>
          <p:nvPr/>
        </p:nvSpPr>
        <p:spPr>
          <a:xfrm>
            <a:off x="1663560" y="25844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73200" y="298296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817640" y="2935440"/>
            <a:ext cx="362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1895400" y="32385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1039680" y="29844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1397160" y="2984400"/>
            <a:ext cx="23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1631880" y="2989440"/>
            <a:ext cx="249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16"/>
          <p:cNvSpPr/>
          <p:nvPr/>
        </p:nvSpPr>
        <p:spPr>
          <a:xfrm rot="16200000">
            <a:off x="2173320" y="3560400"/>
            <a:ext cx="343080" cy="777960"/>
          </a:xfrm>
          <a:prstGeom prst="upArrow">
            <a:avLst>
              <a:gd name="adj1" fmla="val 50000"/>
              <a:gd name="adj2" fmla="val 566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2793960" y="3760920"/>
            <a:ext cx="401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his will be the formula when we find the value of </a:t>
            </a: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673200" y="37004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1373040" y="3652920"/>
            <a:ext cx="362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1450800" y="39560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1039680" y="37018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T Ma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149400" y="133200"/>
            <a:ext cx="8847000" cy="180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A variabl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P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inversely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oportional to a variabl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2,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36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rite a formula which links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, in the form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P </a:t>
            </a:r>
            <a:r>
              <a:rPr b="0" lang="en-GB" sz="2200" spc="-1" strike="noStrike">
                <a:solidFill>
                  <a:srgbClr val="0000cc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Find the value of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when A  is 2.5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9160" y="103320"/>
            <a:ext cx="8907480" cy="65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673200" y="23288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1184400" y="2513160"/>
            <a:ext cx="282600" cy="193680"/>
          </a:xfrm>
          <a:custGeom>
            <a:avLst/>
            <a:gdLst>
              <a:gd name="textAreaLeft" fmla="*/ 0 w 282600"/>
              <a:gd name="textAreaRight" fmla="*/ 282960 w 282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585800" y="2281320"/>
            <a:ext cx="362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7"/>
          <p:cNvSpPr/>
          <p:nvPr/>
        </p:nvSpPr>
        <p:spPr>
          <a:xfrm>
            <a:off x="1663560" y="25844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673200" y="298296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817640" y="2935440"/>
            <a:ext cx="362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1895400" y="32385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039680" y="29844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1397160" y="2984400"/>
            <a:ext cx="23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631880" y="2989440"/>
            <a:ext cx="249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673200" y="37004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373040" y="3652920"/>
            <a:ext cx="362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18"/>
          <p:cNvSpPr/>
          <p:nvPr/>
        </p:nvSpPr>
        <p:spPr>
          <a:xfrm>
            <a:off x="1450800" y="39560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1039680" y="37018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0"/>
          <p:cNvSpPr/>
          <p:nvPr/>
        </p:nvSpPr>
        <p:spPr>
          <a:xfrm>
            <a:off x="6103800" y="1967040"/>
            <a:ext cx="2849760" cy="2381040"/>
          </a:xfrm>
          <a:custGeom>
            <a:avLst/>
            <a:gdLst>
              <a:gd name="textAreaLeft" fmla="*/ 0 w 2849760"/>
              <a:gd name="textAreaRight" fmla="*/ 2850120 w 2849760"/>
              <a:gd name="textAreaTop" fmla="*/ 0 h 2381040"/>
              <a:gd name="textAreaBottom" fmla="*/ 2381400 h 2381040"/>
            </a:gdLst>
            <a:ahLst/>
            <a:rect l="textAreaLeft" t="textAreaTop" r="textAreaRight" b="textAreaBottom"/>
            <a:pathLst>
              <a:path w="17281" h="17185">
                <a:moveTo>
                  <a:pt x="263" y="481"/>
                </a:moveTo>
                <a:lnTo>
                  <a:pt x="414" y="313"/>
                </a:lnTo>
                <a:lnTo>
                  <a:pt x="565" y="114"/>
                </a:lnTo>
                <a:lnTo>
                  <a:pt x="716" y="198"/>
                </a:lnTo>
                <a:lnTo>
                  <a:pt x="867" y="458"/>
                </a:lnTo>
                <a:lnTo>
                  <a:pt x="1018" y="400"/>
                </a:lnTo>
                <a:lnTo>
                  <a:pt x="1169" y="527"/>
                </a:lnTo>
                <a:lnTo>
                  <a:pt x="1319" y="139"/>
                </a:lnTo>
                <a:lnTo>
                  <a:pt x="1471" y="429"/>
                </a:lnTo>
                <a:lnTo>
                  <a:pt x="1622" y="280"/>
                </a:lnTo>
                <a:lnTo>
                  <a:pt x="1772" y="236"/>
                </a:lnTo>
                <a:lnTo>
                  <a:pt x="1923" y="322"/>
                </a:lnTo>
                <a:lnTo>
                  <a:pt x="2074" y="174"/>
                </a:lnTo>
                <a:lnTo>
                  <a:pt x="2226" y="80"/>
                </a:lnTo>
                <a:lnTo>
                  <a:pt x="2376" y="187"/>
                </a:lnTo>
                <a:lnTo>
                  <a:pt x="2527" y="136"/>
                </a:lnTo>
                <a:lnTo>
                  <a:pt x="2678" y="524"/>
                </a:lnTo>
                <a:lnTo>
                  <a:pt x="2829" y="81"/>
                </a:lnTo>
                <a:lnTo>
                  <a:pt x="2979" y="100"/>
                </a:lnTo>
                <a:lnTo>
                  <a:pt x="3131" y="52"/>
                </a:lnTo>
                <a:lnTo>
                  <a:pt x="3282" y="339"/>
                </a:lnTo>
                <a:lnTo>
                  <a:pt x="3433" y="418"/>
                </a:lnTo>
                <a:lnTo>
                  <a:pt x="3583" y="0"/>
                </a:lnTo>
                <a:lnTo>
                  <a:pt x="3734" y="76"/>
                </a:lnTo>
                <a:lnTo>
                  <a:pt x="3886" y="187"/>
                </a:lnTo>
                <a:lnTo>
                  <a:pt x="4037" y="81"/>
                </a:lnTo>
                <a:lnTo>
                  <a:pt x="4187" y="31"/>
                </a:lnTo>
                <a:lnTo>
                  <a:pt x="4338" y="92"/>
                </a:lnTo>
                <a:lnTo>
                  <a:pt x="4489" y="272"/>
                </a:lnTo>
                <a:lnTo>
                  <a:pt x="4641" y="234"/>
                </a:lnTo>
                <a:lnTo>
                  <a:pt x="4791" y="254"/>
                </a:lnTo>
                <a:lnTo>
                  <a:pt x="4942" y="267"/>
                </a:lnTo>
                <a:lnTo>
                  <a:pt x="5093" y="371"/>
                </a:lnTo>
                <a:lnTo>
                  <a:pt x="5243" y="429"/>
                </a:lnTo>
                <a:lnTo>
                  <a:pt x="5395" y="249"/>
                </a:lnTo>
                <a:lnTo>
                  <a:pt x="5546" y="441"/>
                </a:lnTo>
                <a:lnTo>
                  <a:pt x="5697" y="123"/>
                </a:lnTo>
                <a:lnTo>
                  <a:pt x="5847" y="233"/>
                </a:lnTo>
                <a:lnTo>
                  <a:pt x="5998" y="207"/>
                </a:lnTo>
                <a:lnTo>
                  <a:pt x="6150" y="404"/>
                </a:lnTo>
                <a:lnTo>
                  <a:pt x="6301" y="419"/>
                </a:lnTo>
                <a:lnTo>
                  <a:pt x="6451" y="243"/>
                </a:lnTo>
                <a:lnTo>
                  <a:pt x="6602" y="111"/>
                </a:lnTo>
                <a:lnTo>
                  <a:pt x="6753" y="0"/>
                </a:lnTo>
                <a:lnTo>
                  <a:pt x="6905" y="459"/>
                </a:lnTo>
                <a:lnTo>
                  <a:pt x="7055" y="478"/>
                </a:lnTo>
                <a:lnTo>
                  <a:pt x="7206" y="315"/>
                </a:lnTo>
                <a:lnTo>
                  <a:pt x="7357" y="422"/>
                </a:lnTo>
                <a:lnTo>
                  <a:pt x="7508" y="387"/>
                </a:lnTo>
                <a:lnTo>
                  <a:pt x="7658" y="348"/>
                </a:lnTo>
                <a:lnTo>
                  <a:pt x="7810" y="102"/>
                </a:lnTo>
                <a:lnTo>
                  <a:pt x="7961" y="264"/>
                </a:lnTo>
                <a:lnTo>
                  <a:pt x="8111" y="305"/>
                </a:lnTo>
                <a:lnTo>
                  <a:pt x="8262" y="335"/>
                </a:lnTo>
                <a:lnTo>
                  <a:pt x="8413" y="231"/>
                </a:lnTo>
                <a:lnTo>
                  <a:pt x="8565" y="52"/>
                </a:lnTo>
                <a:lnTo>
                  <a:pt x="8715" y="187"/>
                </a:lnTo>
                <a:lnTo>
                  <a:pt x="8866" y="440"/>
                </a:lnTo>
                <a:lnTo>
                  <a:pt x="9017" y="134"/>
                </a:lnTo>
                <a:lnTo>
                  <a:pt x="9168" y="219"/>
                </a:lnTo>
                <a:lnTo>
                  <a:pt x="9319" y="102"/>
                </a:lnTo>
                <a:lnTo>
                  <a:pt x="9470" y="378"/>
                </a:lnTo>
                <a:lnTo>
                  <a:pt x="9621" y="83"/>
                </a:lnTo>
                <a:lnTo>
                  <a:pt x="9772" y="341"/>
                </a:lnTo>
                <a:lnTo>
                  <a:pt x="9922" y="432"/>
                </a:lnTo>
                <a:lnTo>
                  <a:pt x="10074" y="343"/>
                </a:lnTo>
                <a:lnTo>
                  <a:pt x="10225" y="55"/>
                </a:lnTo>
                <a:lnTo>
                  <a:pt x="10376" y="175"/>
                </a:lnTo>
                <a:lnTo>
                  <a:pt x="10526" y="419"/>
                </a:lnTo>
                <a:lnTo>
                  <a:pt x="10677" y="320"/>
                </a:lnTo>
                <a:lnTo>
                  <a:pt x="10829" y="225"/>
                </a:lnTo>
                <a:lnTo>
                  <a:pt x="10980" y="122"/>
                </a:lnTo>
                <a:lnTo>
                  <a:pt x="11130" y="100"/>
                </a:lnTo>
                <a:lnTo>
                  <a:pt x="11281" y="2"/>
                </a:lnTo>
                <a:lnTo>
                  <a:pt x="11432" y="235"/>
                </a:lnTo>
                <a:lnTo>
                  <a:pt x="11582" y="20"/>
                </a:lnTo>
                <a:lnTo>
                  <a:pt x="11734" y="200"/>
                </a:lnTo>
                <a:lnTo>
                  <a:pt x="11885" y="517"/>
                </a:lnTo>
                <a:lnTo>
                  <a:pt x="12036" y="505"/>
                </a:lnTo>
                <a:lnTo>
                  <a:pt x="12186" y="354"/>
                </a:lnTo>
                <a:lnTo>
                  <a:pt x="12337" y="200"/>
                </a:lnTo>
                <a:lnTo>
                  <a:pt x="12489" y="339"/>
                </a:lnTo>
                <a:lnTo>
                  <a:pt x="12640" y="70"/>
                </a:lnTo>
                <a:lnTo>
                  <a:pt x="12790" y="498"/>
                </a:lnTo>
                <a:lnTo>
                  <a:pt x="12941" y="455"/>
                </a:lnTo>
                <a:lnTo>
                  <a:pt x="13092" y="32"/>
                </a:lnTo>
                <a:lnTo>
                  <a:pt x="13244" y="137"/>
                </a:lnTo>
                <a:lnTo>
                  <a:pt x="13394" y="192"/>
                </a:lnTo>
                <a:lnTo>
                  <a:pt x="13545" y="500"/>
                </a:lnTo>
                <a:lnTo>
                  <a:pt x="13696" y="142"/>
                </a:lnTo>
                <a:lnTo>
                  <a:pt x="13847" y="295"/>
                </a:lnTo>
                <a:lnTo>
                  <a:pt x="13997" y="524"/>
                </a:lnTo>
                <a:lnTo>
                  <a:pt x="14149" y="491"/>
                </a:lnTo>
                <a:lnTo>
                  <a:pt x="14300" y="420"/>
                </a:lnTo>
                <a:lnTo>
                  <a:pt x="14450" y="339"/>
                </a:lnTo>
                <a:lnTo>
                  <a:pt x="14601" y="379"/>
                </a:lnTo>
                <a:lnTo>
                  <a:pt x="14752" y="93"/>
                </a:lnTo>
                <a:lnTo>
                  <a:pt x="14904" y="294"/>
                </a:lnTo>
                <a:lnTo>
                  <a:pt x="15054" y="22"/>
                </a:lnTo>
                <a:lnTo>
                  <a:pt x="15205" y="213"/>
                </a:lnTo>
                <a:lnTo>
                  <a:pt x="15356" y="120"/>
                </a:lnTo>
                <a:lnTo>
                  <a:pt x="15507" y="170"/>
                </a:lnTo>
                <a:lnTo>
                  <a:pt x="15658" y="36"/>
                </a:lnTo>
                <a:lnTo>
                  <a:pt x="15809" y="535"/>
                </a:lnTo>
                <a:lnTo>
                  <a:pt x="15960" y="181"/>
                </a:lnTo>
                <a:lnTo>
                  <a:pt x="16111" y="254"/>
                </a:lnTo>
                <a:lnTo>
                  <a:pt x="16261" y="266"/>
                </a:lnTo>
                <a:lnTo>
                  <a:pt x="16413" y="476"/>
                </a:lnTo>
                <a:lnTo>
                  <a:pt x="16564" y="328"/>
                </a:lnTo>
                <a:lnTo>
                  <a:pt x="16715" y="231"/>
                </a:lnTo>
                <a:lnTo>
                  <a:pt x="16865" y="247"/>
                </a:lnTo>
                <a:lnTo>
                  <a:pt x="17272" y="268"/>
                </a:lnTo>
                <a:lnTo>
                  <a:pt x="17224" y="419"/>
                </a:lnTo>
                <a:lnTo>
                  <a:pt x="17013" y="570"/>
                </a:lnTo>
                <a:lnTo>
                  <a:pt x="16779" y="722"/>
                </a:lnTo>
                <a:lnTo>
                  <a:pt x="17011" y="873"/>
                </a:lnTo>
                <a:lnTo>
                  <a:pt x="16992" y="1024"/>
                </a:lnTo>
                <a:lnTo>
                  <a:pt x="16952" y="1176"/>
                </a:lnTo>
                <a:lnTo>
                  <a:pt x="17207" y="1327"/>
                </a:lnTo>
                <a:lnTo>
                  <a:pt x="16781" y="1478"/>
                </a:lnTo>
                <a:lnTo>
                  <a:pt x="17245" y="1629"/>
                </a:lnTo>
                <a:lnTo>
                  <a:pt x="16878" y="1781"/>
                </a:lnTo>
                <a:lnTo>
                  <a:pt x="17264" y="1933"/>
                </a:lnTo>
                <a:lnTo>
                  <a:pt x="16815" y="2084"/>
                </a:lnTo>
                <a:lnTo>
                  <a:pt x="16838" y="2236"/>
                </a:lnTo>
                <a:lnTo>
                  <a:pt x="16987" y="2387"/>
                </a:lnTo>
                <a:lnTo>
                  <a:pt x="17200" y="2538"/>
                </a:lnTo>
                <a:lnTo>
                  <a:pt x="16825" y="2689"/>
                </a:lnTo>
                <a:lnTo>
                  <a:pt x="17157" y="2841"/>
                </a:lnTo>
                <a:lnTo>
                  <a:pt x="17220" y="2992"/>
                </a:lnTo>
                <a:lnTo>
                  <a:pt x="17005" y="3143"/>
                </a:lnTo>
                <a:lnTo>
                  <a:pt x="17125" y="3294"/>
                </a:lnTo>
                <a:lnTo>
                  <a:pt x="17183" y="3446"/>
                </a:lnTo>
                <a:lnTo>
                  <a:pt x="16800" y="3597"/>
                </a:lnTo>
                <a:lnTo>
                  <a:pt x="16796" y="3748"/>
                </a:lnTo>
                <a:lnTo>
                  <a:pt x="16760" y="3900"/>
                </a:lnTo>
                <a:lnTo>
                  <a:pt x="17059" y="4052"/>
                </a:lnTo>
                <a:lnTo>
                  <a:pt x="16780" y="4203"/>
                </a:lnTo>
                <a:lnTo>
                  <a:pt x="16757" y="4354"/>
                </a:lnTo>
                <a:lnTo>
                  <a:pt x="17219" y="4506"/>
                </a:lnTo>
                <a:lnTo>
                  <a:pt x="17190" y="4657"/>
                </a:lnTo>
                <a:lnTo>
                  <a:pt x="17160" y="4808"/>
                </a:lnTo>
                <a:lnTo>
                  <a:pt x="17274" y="4960"/>
                </a:lnTo>
                <a:lnTo>
                  <a:pt x="17010" y="5111"/>
                </a:lnTo>
                <a:lnTo>
                  <a:pt x="16875" y="5262"/>
                </a:lnTo>
                <a:lnTo>
                  <a:pt x="17040" y="5413"/>
                </a:lnTo>
                <a:lnTo>
                  <a:pt x="16914" y="5565"/>
                </a:lnTo>
                <a:lnTo>
                  <a:pt x="16977" y="5717"/>
                </a:lnTo>
                <a:lnTo>
                  <a:pt x="17234" y="5868"/>
                </a:lnTo>
                <a:lnTo>
                  <a:pt x="16898" y="6020"/>
                </a:lnTo>
                <a:lnTo>
                  <a:pt x="16947" y="6171"/>
                </a:lnTo>
                <a:lnTo>
                  <a:pt x="16751" y="6322"/>
                </a:lnTo>
                <a:lnTo>
                  <a:pt x="16852" y="6473"/>
                </a:lnTo>
                <a:lnTo>
                  <a:pt x="16965" y="6625"/>
                </a:lnTo>
                <a:lnTo>
                  <a:pt x="17156" y="6776"/>
                </a:lnTo>
                <a:lnTo>
                  <a:pt x="16890" y="6927"/>
                </a:lnTo>
                <a:lnTo>
                  <a:pt x="17273" y="7078"/>
                </a:lnTo>
                <a:lnTo>
                  <a:pt x="17212" y="7230"/>
                </a:lnTo>
                <a:lnTo>
                  <a:pt x="17020" y="7381"/>
                </a:lnTo>
                <a:lnTo>
                  <a:pt x="16761" y="7532"/>
                </a:lnTo>
                <a:lnTo>
                  <a:pt x="17052" y="7685"/>
                </a:lnTo>
                <a:lnTo>
                  <a:pt x="17225" y="7836"/>
                </a:lnTo>
                <a:lnTo>
                  <a:pt x="17225" y="7987"/>
                </a:lnTo>
                <a:lnTo>
                  <a:pt x="16779" y="8138"/>
                </a:lnTo>
                <a:lnTo>
                  <a:pt x="16921" y="8290"/>
                </a:lnTo>
                <a:lnTo>
                  <a:pt x="17195" y="8441"/>
                </a:lnTo>
                <a:lnTo>
                  <a:pt x="16761" y="8592"/>
                </a:lnTo>
                <a:lnTo>
                  <a:pt x="17248" y="8744"/>
                </a:lnTo>
                <a:lnTo>
                  <a:pt x="16904" y="8895"/>
                </a:lnTo>
                <a:lnTo>
                  <a:pt x="17219" y="9046"/>
                </a:lnTo>
                <a:lnTo>
                  <a:pt x="17244" y="9198"/>
                </a:lnTo>
                <a:lnTo>
                  <a:pt x="17012" y="9350"/>
                </a:lnTo>
                <a:lnTo>
                  <a:pt x="17181" y="9501"/>
                </a:lnTo>
                <a:lnTo>
                  <a:pt x="17206" y="9652"/>
                </a:lnTo>
                <a:lnTo>
                  <a:pt x="16804" y="9804"/>
                </a:lnTo>
                <a:lnTo>
                  <a:pt x="17076" y="9955"/>
                </a:lnTo>
                <a:lnTo>
                  <a:pt x="16984" y="10106"/>
                </a:lnTo>
                <a:lnTo>
                  <a:pt x="17281" y="10257"/>
                </a:lnTo>
                <a:lnTo>
                  <a:pt x="17017" y="10409"/>
                </a:lnTo>
                <a:lnTo>
                  <a:pt x="16821" y="10560"/>
                </a:lnTo>
                <a:lnTo>
                  <a:pt x="16879" y="10711"/>
                </a:lnTo>
                <a:lnTo>
                  <a:pt x="17213" y="10862"/>
                </a:lnTo>
                <a:lnTo>
                  <a:pt x="17146" y="11014"/>
                </a:lnTo>
                <a:lnTo>
                  <a:pt x="17090" y="11165"/>
                </a:lnTo>
                <a:lnTo>
                  <a:pt x="17090" y="11317"/>
                </a:lnTo>
                <a:lnTo>
                  <a:pt x="16917" y="11469"/>
                </a:lnTo>
                <a:lnTo>
                  <a:pt x="17022" y="11620"/>
                </a:lnTo>
                <a:lnTo>
                  <a:pt x="17262" y="11771"/>
                </a:lnTo>
                <a:lnTo>
                  <a:pt x="17230" y="11922"/>
                </a:lnTo>
                <a:lnTo>
                  <a:pt x="17083" y="12074"/>
                </a:lnTo>
                <a:lnTo>
                  <a:pt x="16818" y="12225"/>
                </a:lnTo>
                <a:lnTo>
                  <a:pt x="16798" y="12376"/>
                </a:lnTo>
                <a:lnTo>
                  <a:pt x="17078" y="12528"/>
                </a:lnTo>
                <a:lnTo>
                  <a:pt x="17146" y="12679"/>
                </a:lnTo>
                <a:lnTo>
                  <a:pt x="16762" y="12830"/>
                </a:lnTo>
                <a:lnTo>
                  <a:pt x="16989" y="12981"/>
                </a:lnTo>
                <a:lnTo>
                  <a:pt x="16787" y="13133"/>
                </a:lnTo>
                <a:lnTo>
                  <a:pt x="17197" y="13285"/>
                </a:lnTo>
                <a:lnTo>
                  <a:pt x="16854" y="13436"/>
                </a:lnTo>
                <a:lnTo>
                  <a:pt x="16749" y="13588"/>
                </a:lnTo>
                <a:lnTo>
                  <a:pt x="17223" y="13739"/>
                </a:lnTo>
                <a:lnTo>
                  <a:pt x="17251" y="13890"/>
                </a:lnTo>
                <a:lnTo>
                  <a:pt x="16971" y="14041"/>
                </a:lnTo>
                <a:lnTo>
                  <a:pt x="16952" y="14193"/>
                </a:lnTo>
                <a:lnTo>
                  <a:pt x="17218" y="14344"/>
                </a:lnTo>
                <a:lnTo>
                  <a:pt x="17269" y="14495"/>
                </a:lnTo>
                <a:lnTo>
                  <a:pt x="16875" y="14646"/>
                </a:lnTo>
                <a:lnTo>
                  <a:pt x="16970" y="14798"/>
                </a:lnTo>
                <a:lnTo>
                  <a:pt x="17037" y="14950"/>
                </a:lnTo>
                <a:lnTo>
                  <a:pt x="17260" y="15101"/>
                </a:lnTo>
                <a:lnTo>
                  <a:pt x="17034" y="15253"/>
                </a:lnTo>
                <a:lnTo>
                  <a:pt x="16842" y="15404"/>
                </a:lnTo>
                <a:lnTo>
                  <a:pt x="16777" y="15555"/>
                </a:lnTo>
                <a:lnTo>
                  <a:pt x="17099" y="15706"/>
                </a:lnTo>
                <a:lnTo>
                  <a:pt x="17113" y="15858"/>
                </a:lnTo>
                <a:lnTo>
                  <a:pt x="16785" y="16009"/>
                </a:lnTo>
                <a:lnTo>
                  <a:pt x="16846" y="16160"/>
                </a:lnTo>
                <a:lnTo>
                  <a:pt x="16987" y="16312"/>
                </a:lnTo>
                <a:lnTo>
                  <a:pt x="16777" y="16463"/>
                </a:lnTo>
                <a:lnTo>
                  <a:pt x="17246" y="16615"/>
                </a:lnTo>
                <a:lnTo>
                  <a:pt x="16755" y="16765"/>
                </a:lnTo>
                <a:lnTo>
                  <a:pt x="17016" y="17030"/>
                </a:lnTo>
                <a:lnTo>
                  <a:pt x="16865" y="17185"/>
                </a:lnTo>
                <a:lnTo>
                  <a:pt x="16715" y="17048"/>
                </a:lnTo>
                <a:lnTo>
                  <a:pt x="16564" y="17170"/>
                </a:lnTo>
                <a:lnTo>
                  <a:pt x="16413" y="16921"/>
                </a:lnTo>
                <a:lnTo>
                  <a:pt x="16261" y="17148"/>
                </a:lnTo>
                <a:lnTo>
                  <a:pt x="16111" y="16652"/>
                </a:lnTo>
                <a:lnTo>
                  <a:pt x="15960" y="17137"/>
                </a:lnTo>
                <a:lnTo>
                  <a:pt x="15809" y="17090"/>
                </a:lnTo>
                <a:lnTo>
                  <a:pt x="15658" y="17032"/>
                </a:lnTo>
                <a:lnTo>
                  <a:pt x="15507" y="16740"/>
                </a:lnTo>
                <a:lnTo>
                  <a:pt x="15356" y="17081"/>
                </a:lnTo>
                <a:lnTo>
                  <a:pt x="15205" y="16737"/>
                </a:lnTo>
                <a:lnTo>
                  <a:pt x="15054" y="17175"/>
                </a:lnTo>
                <a:lnTo>
                  <a:pt x="14904" y="16830"/>
                </a:lnTo>
                <a:lnTo>
                  <a:pt x="14752" y="17123"/>
                </a:lnTo>
                <a:lnTo>
                  <a:pt x="14601" y="17085"/>
                </a:lnTo>
                <a:lnTo>
                  <a:pt x="14450" y="16942"/>
                </a:lnTo>
                <a:lnTo>
                  <a:pt x="14300" y="16980"/>
                </a:lnTo>
                <a:lnTo>
                  <a:pt x="14149" y="16977"/>
                </a:lnTo>
                <a:lnTo>
                  <a:pt x="13997" y="16894"/>
                </a:lnTo>
                <a:lnTo>
                  <a:pt x="13847" y="16960"/>
                </a:lnTo>
                <a:lnTo>
                  <a:pt x="13696" y="16789"/>
                </a:lnTo>
                <a:lnTo>
                  <a:pt x="13545" y="16888"/>
                </a:lnTo>
                <a:lnTo>
                  <a:pt x="13394" y="16948"/>
                </a:lnTo>
                <a:lnTo>
                  <a:pt x="13244" y="17016"/>
                </a:lnTo>
                <a:lnTo>
                  <a:pt x="13092" y="16682"/>
                </a:lnTo>
                <a:lnTo>
                  <a:pt x="12941" y="17069"/>
                </a:lnTo>
                <a:lnTo>
                  <a:pt x="12790" y="16738"/>
                </a:lnTo>
                <a:lnTo>
                  <a:pt x="12640" y="16926"/>
                </a:lnTo>
                <a:lnTo>
                  <a:pt x="12489" y="16674"/>
                </a:lnTo>
                <a:lnTo>
                  <a:pt x="12337" y="17159"/>
                </a:lnTo>
                <a:lnTo>
                  <a:pt x="12186" y="16928"/>
                </a:lnTo>
                <a:lnTo>
                  <a:pt x="12036" y="16744"/>
                </a:lnTo>
                <a:lnTo>
                  <a:pt x="11885" y="16666"/>
                </a:lnTo>
                <a:lnTo>
                  <a:pt x="11734" y="17037"/>
                </a:lnTo>
                <a:lnTo>
                  <a:pt x="11582" y="16737"/>
                </a:lnTo>
                <a:lnTo>
                  <a:pt x="11432" y="17145"/>
                </a:lnTo>
                <a:lnTo>
                  <a:pt x="11281" y="16661"/>
                </a:lnTo>
                <a:lnTo>
                  <a:pt x="11130" y="16759"/>
                </a:lnTo>
                <a:lnTo>
                  <a:pt x="10980" y="17139"/>
                </a:lnTo>
                <a:lnTo>
                  <a:pt x="10829" y="16895"/>
                </a:lnTo>
                <a:lnTo>
                  <a:pt x="10677" y="16665"/>
                </a:lnTo>
                <a:lnTo>
                  <a:pt x="10526" y="16930"/>
                </a:lnTo>
                <a:lnTo>
                  <a:pt x="10376" y="16857"/>
                </a:lnTo>
                <a:lnTo>
                  <a:pt x="10225" y="16852"/>
                </a:lnTo>
                <a:lnTo>
                  <a:pt x="10074" y="16820"/>
                </a:lnTo>
                <a:lnTo>
                  <a:pt x="9922" y="16767"/>
                </a:lnTo>
                <a:lnTo>
                  <a:pt x="9772" y="16905"/>
                </a:lnTo>
                <a:lnTo>
                  <a:pt x="9621" y="17180"/>
                </a:lnTo>
                <a:lnTo>
                  <a:pt x="9470" y="16973"/>
                </a:lnTo>
                <a:lnTo>
                  <a:pt x="9319" y="17057"/>
                </a:lnTo>
                <a:lnTo>
                  <a:pt x="9168" y="16879"/>
                </a:lnTo>
                <a:lnTo>
                  <a:pt x="9017" y="16706"/>
                </a:lnTo>
                <a:lnTo>
                  <a:pt x="8866" y="16787"/>
                </a:lnTo>
                <a:lnTo>
                  <a:pt x="8715" y="16682"/>
                </a:lnTo>
                <a:lnTo>
                  <a:pt x="8565" y="17134"/>
                </a:lnTo>
                <a:lnTo>
                  <a:pt x="8413" y="16662"/>
                </a:lnTo>
                <a:lnTo>
                  <a:pt x="8262" y="16669"/>
                </a:lnTo>
                <a:lnTo>
                  <a:pt x="8111" y="16881"/>
                </a:lnTo>
                <a:lnTo>
                  <a:pt x="7961" y="17058"/>
                </a:lnTo>
                <a:lnTo>
                  <a:pt x="7810" y="16811"/>
                </a:lnTo>
                <a:lnTo>
                  <a:pt x="7658" y="16839"/>
                </a:lnTo>
                <a:lnTo>
                  <a:pt x="7508" y="17106"/>
                </a:lnTo>
                <a:lnTo>
                  <a:pt x="7357" y="17107"/>
                </a:lnTo>
                <a:lnTo>
                  <a:pt x="7206" y="16922"/>
                </a:lnTo>
                <a:lnTo>
                  <a:pt x="7055" y="17007"/>
                </a:lnTo>
                <a:lnTo>
                  <a:pt x="6905" y="17182"/>
                </a:lnTo>
                <a:lnTo>
                  <a:pt x="6753" y="16969"/>
                </a:lnTo>
                <a:lnTo>
                  <a:pt x="6602" y="16973"/>
                </a:lnTo>
                <a:lnTo>
                  <a:pt x="6451" y="17157"/>
                </a:lnTo>
                <a:lnTo>
                  <a:pt x="6301" y="17116"/>
                </a:lnTo>
                <a:lnTo>
                  <a:pt x="6150" y="16990"/>
                </a:lnTo>
                <a:lnTo>
                  <a:pt x="5998" y="16702"/>
                </a:lnTo>
                <a:lnTo>
                  <a:pt x="5847" y="17094"/>
                </a:lnTo>
                <a:lnTo>
                  <a:pt x="5697" y="16942"/>
                </a:lnTo>
                <a:lnTo>
                  <a:pt x="5546" y="16832"/>
                </a:lnTo>
                <a:lnTo>
                  <a:pt x="5395" y="17004"/>
                </a:lnTo>
                <a:lnTo>
                  <a:pt x="5243" y="16884"/>
                </a:lnTo>
                <a:lnTo>
                  <a:pt x="5093" y="17076"/>
                </a:lnTo>
                <a:lnTo>
                  <a:pt x="4942" y="16900"/>
                </a:lnTo>
                <a:lnTo>
                  <a:pt x="4791" y="16813"/>
                </a:lnTo>
                <a:lnTo>
                  <a:pt x="4641" y="16871"/>
                </a:lnTo>
                <a:lnTo>
                  <a:pt x="4489" y="16716"/>
                </a:lnTo>
                <a:lnTo>
                  <a:pt x="4338" y="17028"/>
                </a:lnTo>
                <a:lnTo>
                  <a:pt x="4187" y="17105"/>
                </a:lnTo>
                <a:lnTo>
                  <a:pt x="4037" y="16753"/>
                </a:lnTo>
                <a:lnTo>
                  <a:pt x="3886" y="16688"/>
                </a:lnTo>
                <a:lnTo>
                  <a:pt x="3734" y="16875"/>
                </a:lnTo>
                <a:lnTo>
                  <a:pt x="3583" y="17059"/>
                </a:lnTo>
                <a:lnTo>
                  <a:pt x="3433" y="16686"/>
                </a:lnTo>
                <a:lnTo>
                  <a:pt x="3282" y="16728"/>
                </a:lnTo>
                <a:lnTo>
                  <a:pt x="3131" y="16874"/>
                </a:lnTo>
                <a:lnTo>
                  <a:pt x="2979" y="16702"/>
                </a:lnTo>
                <a:lnTo>
                  <a:pt x="2829" y="16670"/>
                </a:lnTo>
                <a:lnTo>
                  <a:pt x="2678" y="16864"/>
                </a:lnTo>
                <a:lnTo>
                  <a:pt x="2527" y="17143"/>
                </a:lnTo>
                <a:lnTo>
                  <a:pt x="2376" y="16985"/>
                </a:lnTo>
                <a:lnTo>
                  <a:pt x="2226" y="16655"/>
                </a:lnTo>
                <a:lnTo>
                  <a:pt x="2074" y="17152"/>
                </a:lnTo>
                <a:lnTo>
                  <a:pt x="1923" y="16967"/>
                </a:lnTo>
                <a:lnTo>
                  <a:pt x="1772" y="17108"/>
                </a:lnTo>
                <a:lnTo>
                  <a:pt x="1622" y="16852"/>
                </a:lnTo>
                <a:lnTo>
                  <a:pt x="1471" y="16832"/>
                </a:lnTo>
                <a:lnTo>
                  <a:pt x="1319" y="17143"/>
                </a:lnTo>
                <a:lnTo>
                  <a:pt x="1169" y="16695"/>
                </a:lnTo>
                <a:lnTo>
                  <a:pt x="1018" y="16900"/>
                </a:lnTo>
                <a:lnTo>
                  <a:pt x="867" y="16868"/>
                </a:lnTo>
                <a:lnTo>
                  <a:pt x="716" y="17006"/>
                </a:lnTo>
                <a:lnTo>
                  <a:pt x="565" y="16731"/>
                </a:lnTo>
                <a:lnTo>
                  <a:pt x="414" y="17165"/>
                </a:lnTo>
                <a:lnTo>
                  <a:pt x="501" y="16917"/>
                </a:lnTo>
                <a:lnTo>
                  <a:pt x="156" y="16767"/>
                </a:lnTo>
                <a:lnTo>
                  <a:pt x="524" y="16614"/>
                </a:lnTo>
                <a:lnTo>
                  <a:pt x="135" y="16463"/>
                </a:lnTo>
                <a:lnTo>
                  <a:pt x="60" y="16312"/>
                </a:lnTo>
                <a:lnTo>
                  <a:pt x="517" y="16160"/>
                </a:lnTo>
                <a:lnTo>
                  <a:pt x="82" y="16009"/>
                </a:lnTo>
                <a:lnTo>
                  <a:pt x="396" y="15858"/>
                </a:lnTo>
                <a:lnTo>
                  <a:pt x="433" y="15706"/>
                </a:lnTo>
                <a:lnTo>
                  <a:pt x="398" y="15555"/>
                </a:lnTo>
                <a:lnTo>
                  <a:pt x="134" y="15404"/>
                </a:lnTo>
                <a:lnTo>
                  <a:pt x="51" y="15253"/>
                </a:lnTo>
                <a:lnTo>
                  <a:pt x="2" y="15101"/>
                </a:lnTo>
                <a:lnTo>
                  <a:pt x="406" y="14949"/>
                </a:lnTo>
                <a:lnTo>
                  <a:pt x="61" y="14798"/>
                </a:lnTo>
                <a:lnTo>
                  <a:pt x="292" y="14646"/>
                </a:lnTo>
                <a:lnTo>
                  <a:pt x="97" y="14495"/>
                </a:lnTo>
                <a:lnTo>
                  <a:pt x="354" y="14344"/>
                </a:lnTo>
                <a:lnTo>
                  <a:pt x="28" y="14193"/>
                </a:lnTo>
                <a:lnTo>
                  <a:pt x="482" y="14041"/>
                </a:lnTo>
                <a:lnTo>
                  <a:pt x="137" y="13890"/>
                </a:lnTo>
                <a:lnTo>
                  <a:pt x="78" y="13739"/>
                </a:lnTo>
                <a:lnTo>
                  <a:pt x="81" y="13588"/>
                </a:lnTo>
                <a:lnTo>
                  <a:pt x="487" y="13436"/>
                </a:lnTo>
                <a:lnTo>
                  <a:pt x="215" y="13285"/>
                </a:lnTo>
                <a:lnTo>
                  <a:pt x="471" y="13133"/>
                </a:lnTo>
                <a:lnTo>
                  <a:pt x="185" y="12981"/>
                </a:lnTo>
                <a:lnTo>
                  <a:pt x="257" y="12830"/>
                </a:lnTo>
                <a:lnTo>
                  <a:pt x="167" y="12679"/>
                </a:lnTo>
                <a:lnTo>
                  <a:pt x="44" y="12528"/>
                </a:lnTo>
                <a:lnTo>
                  <a:pt x="283" y="12376"/>
                </a:lnTo>
                <a:lnTo>
                  <a:pt x="364" y="12225"/>
                </a:lnTo>
                <a:lnTo>
                  <a:pt x="2" y="12074"/>
                </a:lnTo>
                <a:lnTo>
                  <a:pt x="273" y="11922"/>
                </a:lnTo>
                <a:lnTo>
                  <a:pt x="309" y="11771"/>
                </a:lnTo>
                <a:lnTo>
                  <a:pt x="32" y="11620"/>
                </a:lnTo>
                <a:lnTo>
                  <a:pt x="414" y="11469"/>
                </a:lnTo>
                <a:lnTo>
                  <a:pt x="506" y="11316"/>
                </a:lnTo>
                <a:lnTo>
                  <a:pt x="335" y="11165"/>
                </a:lnTo>
                <a:lnTo>
                  <a:pt x="118" y="11014"/>
                </a:lnTo>
                <a:lnTo>
                  <a:pt x="192" y="10862"/>
                </a:lnTo>
                <a:lnTo>
                  <a:pt x="31" y="10711"/>
                </a:lnTo>
                <a:lnTo>
                  <a:pt x="223" y="10560"/>
                </a:lnTo>
                <a:lnTo>
                  <a:pt x="48" y="10409"/>
                </a:lnTo>
                <a:lnTo>
                  <a:pt x="517" y="10257"/>
                </a:lnTo>
                <a:lnTo>
                  <a:pt x="422" y="10106"/>
                </a:lnTo>
                <a:lnTo>
                  <a:pt x="59" y="9955"/>
                </a:lnTo>
                <a:lnTo>
                  <a:pt x="492" y="9804"/>
                </a:lnTo>
                <a:lnTo>
                  <a:pt x="90" y="9652"/>
                </a:lnTo>
                <a:lnTo>
                  <a:pt x="475" y="9501"/>
                </a:lnTo>
                <a:lnTo>
                  <a:pt x="191" y="9350"/>
                </a:lnTo>
                <a:lnTo>
                  <a:pt x="218" y="9197"/>
                </a:lnTo>
                <a:lnTo>
                  <a:pt x="205" y="9046"/>
                </a:lnTo>
                <a:lnTo>
                  <a:pt x="16" y="8895"/>
                </a:lnTo>
                <a:lnTo>
                  <a:pt x="531" y="8744"/>
                </a:lnTo>
                <a:lnTo>
                  <a:pt x="10" y="8592"/>
                </a:lnTo>
                <a:lnTo>
                  <a:pt x="470" y="8441"/>
                </a:lnTo>
                <a:lnTo>
                  <a:pt x="17" y="8290"/>
                </a:lnTo>
                <a:lnTo>
                  <a:pt x="106" y="8138"/>
                </a:lnTo>
                <a:lnTo>
                  <a:pt x="436" y="7987"/>
                </a:lnTo>
                <a:lnTo>
                  <a:pt x="17" y="7836"/>
                </a:lnTo>
                <a:lnTo>
                  <a:pt x="252" y="7685"/>
                </a:lnTo>
                <a:lnTo>
                  <a:pt x="273" y="7533"/>
                </a:lnTo>
                <a:lnTo>
                  <a:pt x="493" y="7381"/>
                </a:lnTo>
                <a:lnTo>
                  <a:pt x="485" y="7230"/>
                </a:lnTo>
                <a:lnTo>
                  <a:pt x="240" y="7078"/>
                </a:lnTo>
                <a:lnTo>
                  <a:pt x="216" y="6927"/>
                </a:lnTo>
                <a:lnTo>
                  <a:pt x="0" y="6776"/>
                </a:lnTo>
                <a:lnTo>
                  <a:pt x="331" y="6625"/>
                </a:lnTo>
                <a:lnTo>
                  <a:pt x="359" y="6473"/>
                </a:lnTo>
                <a:lnTo>
                  <a:pt x="517" y="6322"/>
                </a:lnTo>
                <a:lnTo>
                  <a:pt x="403" y="6171"/>
                </a:lnTo>
                <a:lnTo>
                  <a:pt x="433" y="6020"/>
                </a:lnTo>
                <a:lnTo>
                  <a:pt x="309" y="5868"/>
                </a:lnTo>
                <a:lnTo>
                  <a:pt x="173" y="5717"/>
                </a:lnTo>
                <a:lnTo>
                  <a:pt x="462" y="5565"/>
                </a:lnTo>
                <a:lnTo>
                  <a:pt x="323" y="5413"/>
                </a:lnTo>
                <a:lnTo>
                  <a:pt x="403" y="5262"/>
                </a:lnTo>
                <a:lnTo>
                  <a:pt x="187" y="5111"/>
                </a:lnTo>
                <a:lnTo>
                  <a:pt x="216" y="4960"/>
                </a:lnTo>
                <a:lnTo>
                  <a:pt x="150" y="4808"/>
                </a:lnTo>
                <a:lnTo>
                  <a:pt x="172" y="4657"/>
                </a:lnTo>
                <a:lnTo>
                  <a:pt x="163" y="4506"/>
                </a:lnTo>
                <a:lnTo>
                  <a:pt x="92" y="4354"/>
                </a:lnTo>
                <a:lnTo>
                  <a:pt x="101" y="4203"/>
                </a:lnTo>
                <a:lnTo>
                  <a:pt x="295" y="4052"/>
                </a:lnTo>
                <a:lnTo>
                  <a:pt x="496" y="3900"/>
                </a:lnTo>
                <a:lnTo>
                  <a:pt x="466" y="3748"/>
                </a:lnTo>
                <a:lnTo>
                  <a:pt x="19" y="3598"/>
                </a:lnTo>
                <a:lnTo>
                  <a:pt x="205" y="3446"/>
                </a:lnTo>
                <a:lnTo>
                  <a:pt x="363" y="3294"/>
                </a:lnTo>
                <a:lnTo>
                  <a:pt x="351" y="3143"/>
                </a:lnTo>
                <a:lnTo>
                  <a:pt x="63" y="2992"/>
                </a:lnTo>
                <a:lnTo>
                  <a:pt x="67" y="2841"/>
                </a:lnTo>
                <a:lnTo>
                  <a:pt x="328" y="2689"/>
                </a:lnTo>
                <a:lnTo>
                  <a:pt x="6" y="2538"/>
                </a:lnTo>
                <a:lnTo>
                  <a:pt x="315" y="2387"/>
                </a:lnTo>
                <a:lnTo>
                  <a:pt x="526" y="2236"/>
                </a:lnTo>
                <a:lnTo>
                  <a:pt x="320" y="2084"/>
                </a:lnTo>
                <a:lnTo>
                  <a:pt x="216" y="1933"/>
                </a:lnTo>
                <a:lnTo>
                  <a:pt x="203" y="1781"/>
                </a:lnTo>
                <a:lnTo>
                  <a:pt x="368" y="1629"/>
                </a:lnTo>
                <a:lnTo>
                  <a:pt x="162" y="1478"/>
                </a:lnTo>
                <a:lnTo>
                  <a:pt x="364" y="1327"/>
                </a:lnTo>
                <a:lnTo>
                  <a:pt x="459" y="1176"/>
                </a:lnTo>
                <a:lnTo>
                  <a:pt x="501" y="1024"/>
                </a:lnTo>
                <a:lnTo>
                  <a:pt x="423" y="873"/>
                </a:lnTo>
                <a:lnTo>
                  <a:pt x="377" y="722"/>
                </a:lnTo>
                <a:lnTo>
                  <a:pt x="418" y="570"/>
                </a:lnTo>
                <a:lnTo>
                  <a:pt x="452" y="419"/>
                </a:lnTo>
                <a:lnTo>
                  <a:pt x="263" y="481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4"/>
          <p:cNvSpPr/>
          <p:nvPr/>
        </p:nvSpPr>
        <p:spPr>
          <a:xfrm>
            <a:off x="6415200" y="214956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5"/>
          <p:cNvSpPr/>
          <p:nvPr/>
        </p:nvSpPr>
        <p:spPr>
          <a:xfrm>
            <a:off x="7115040" y="2101680"/>
            <a:ext cx="362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46"/>
          <p:cNvSpPr/>
          <p:nvPr/>
        </p:nvSpPr>
        <p:spPr>
          <a:xfrm>
            <a:off x="7192800" y="2405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7"/>
          <p:cNvSpPr/>
          <p:nvPr/>
        </p:nvSpPr>
        <p:spPr>
          <a:xfrm>
            <a:off x="6781680" y="21510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8"/>
          <p:cNvSpPr/>
          <p:nvPr/>
        </p:nvSpPr>
        <p:spPr>
          <a:xfrm>
            <a:off x="6415200" y="293220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7115040" y="2884320"/>
            <a:ext cx="362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50"/>
          <p:cNvSpPr/>
          <p:nvPr/>
        </p:nvSpPr>
        <p:spPr>
          <a:xfrm>
            <a:off x="7192800" y="3187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51"/>
          <p:cNvSpPr/>
          <p:nvPr/>
        </p:nvSpPr>
        <p:spPr>
          <a:xfrm>
            <a:off x="6781680" y="29336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2"/>
          <p:cNvSpPr/>
          <p:nvPr/>
        </p:nvSpPr>
        <p:spPr>
          <a:xfrm>
            <a:off x="6416640" y="352440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3"/>
          <p:cNvSpPr/>
          <p:nvPr/>
        </p:nvSpPr>
        <p:spPr>
          <a:xfrm>
            <a:off x="6783480" y="35258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54"/>
          <p:cNvSpPr/>
          <p:nvPr/>
        </p:nvSpPr>
        <p:spPr>
          <a:xfrm>
            <a:off x="7147080" y="3527280"/>
            <a:ext cx="49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5"/>
          <p:cNvSpPr/>
          <p:nvPr/>
        </p:nvSpPr>
        <p:spPr>
          <a:xfrm>
            <a:off x="673200" y="441468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56"/>
          <p:cNvSpPr/>
          <p:nvPr/>
        </p:nvSpPr>
        <p:spPr>
          <a:xfrm>
            <a:off x="1392120" y="4367160"/>
            <a:ext cx="484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57"/>
          <p:cNvSpPr/>
          <p:nvPr/>
        </p:nvSpPr>
        <p:spPr>
          <a:xfrm>
            <a:off x="1450800" y="4670280"/>
            <a:ext cx="3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58"/>
          <p:cNvSpPr/>
          <p:nvPr/>
        </p:nvSpPr>
        <p:spPr>
          <a:xfrm>
            <a:off x="1039680" y="441648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9"/>
          <p:cNvSpPr/>
          <p:nvPr/>
        </p:nvSpPr>
        <p:spPr>
          <a:xfrm>
            <a:off x="158760" y="4413240"/>
            <a:ext cx="51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60"/>
          <p:cNvSpPr/>
          <p:nvPr/>
        </p:nvSpPr>
        <p:spPr>
          <a:xfrm>
            <a:off x="411120" y="774720"/>
            <a:ext cx="712800" cy="595440"/>
          </a:xfrm>
          <a:custGeom>
            <a:avLst/>
            <a:gdLst>
              <a:gd name="textAreaLeft" fmla="*/ 0 w 712800"/>
              <a:gd name="textAreaRight" fmla="*/ 713160 w 7128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16074" h="13428">
                <a:moveTo>
                  <a:pt x="0" y="9878"/>
                </a:moveTo>
                <a:lnTo>
                  <a:pt x="3033" y="5009"/>
                </a:lnTo>
                <a:lnTo>
                  <a:pt x="4897" y="9995"/>
                </a:lnTo>
                <a:lnTo>
                  <a:pt x="5158" y="9602"/>
                </a:lnTo>
                <a:lnTo>
                  <a:pt x="5424" y="9214"/>
                </a:lnTo>
                <a:lnTo>
                  <a:pt x="5696" y="8830"/>
                </a:lnTo>
                <a:lnTo>
                  <a:pt x="5974" y="8453"/>
                </a:lnTo>
                <a:lnTo>
                  <a:pt x="6258" y="8079"/>
                </a:lnTo>
                <a:lnTo>
                  <a:pt x="6548" y="7710"/>
                </a:lnTo>
                <a:lnTo>
                  <a:pt x="7145" y="6986"/>
                </a:lnTo>
                <a:lnTo>
                  <a:pt x="7452" y="6632"/>
                </a:lnTo>
                <a:lnTo>
                  <a:pt x="7764" y="6282"/>
                </a:lnTo>
                <a:lnTo>
                  <a:pt x="8406" y="5599"/>
                </a:lnTo>
                <a:lnTo>
                  <a:pt x="8732" y="5264"/>
                </a:lnTo>
                <a:lnTo>
                  <a:pt x="9067" y="4935"/>
                </a:lnTo>
                <a:lnTo>
                  <a:pt x="9406" y="4612"/>
                </a:lnTo>
                <a:lnTo>
                  <a:pt x="9750" y="4296"/>
                </a:lnTo>
                <a:lnTo>
                  <a:pt x="10098" y="3984"/>
                </a:lnTo>
                <a:lnTo>
                  <a:pt x="10453" y="3677"/>
                </a:lnTo>
                <a:lnTo>
                  <a:pt x="11175" y="3079"/>
                </a:lnTo>
                <a:lnTo>
                  <a:pt x="11544" y="2790"/>
                </a:lnTo>
                <a:lnTo>
                  <a:pt x="11917" y="2506"/>
                </a:lnTo>
                <a:lnTo>
                  <a:pt x="12296" y="2227"/>
                </a:lnTo>
                <a:lnTo>
                  <a:pt x="12677" y="1955"/>
                </a:lnTo>
                <a:lnTo>
                  <a:pt x="13065" y="1688"/>
                </a:lnTo>
                <a:lnTo>
                  <a:pt x="13456" y="1429"/>
                </a:lnTo>
                <a:lnTo>
                  <a:pt x="13853" y="1176"/>
                </a:lnTo>
                <a:lnTo>
                  <a:pt x="14252" y="928"/>
                </a:lnTo>
                <a:lnTo>
                  <a:pt x="14657" y="687"/>
                </a:lnTo>
                <a:lnTo>
                  <a:pt x="15065" y="452"/>
                </a:lnTo>
                <a:lnTo>
                  <a:pt x="15478" y="222"/>
                </a:lnTo>
                <a:lnTo>
                  <a:pt x="15896" y="0"/>
                </a:lnTo>
                <a:lnTo>
                  <a:pt x="16074" y="204"/>
                </a:lnTo>
                <a:lnTo>
                  <a:pt x="15609" y="494"/>
                </a:lnTo>
                <a:lnTo>
                  <a:pt x="15150" y="796"/>
                </a:lnTo>
                <a:lnTo>
                  <a:pt x="14698" y="1104"/>
                </a:lnTo>
                <a:lnTo>
                  <a:pt x="14256" y="1424"/>
                </a:lnTo>
                <a:lnTo>
                  <a:pt x="13819" y="1751"/>
                </a:lnTo>
                <a:lnTo>
                  <a:pt x="13389" y="2087"/>
                </a:lnTo>
                <a:lnTo>
                  <a:pt x="12968" y="2431"/>
                </a:lnTo>
                <a:lnTo>
                  <a:pt x="12555" y="2786"/>
                </a:lnTo>
                <a:lnTo>
                  <a:pt x="12149" y="3145"/>
                </a:lnTo>
                <a:lnTo>
                  <a:pt x="11750" y="3515"/>
                </a:lnTo>
                <a:lnTo>
                  <a:pt x="11360" y="3893"/>
                </a:lnTo>
                <a:lnTo>
                  <a:pt x="10979" y="4279"/>
                </a:lnTo>
                <a:lnTo>
                  <a:pt x="10606" y="4673"/>
                </a:lnTo>
                <a:lnTo>
                  <a:pt x="10240" y="5073"/>
                </a:lnTo>
                <a:lnTo>
                  <a:pt x="9884" y="5481"/>
                </a:lnTo>
                <a:lnTo>
                  <a:pt x="9537" y="5896"/>
                </a:lnTo>
                <a:lnTo>
                  <a:pt x="9196" y="6319"/>
                </a:lnTo>
                <a:lnTo>
                  <a:pt x="8868" y="6749"/>
                </a:lnTo>
                <a:lnTo>
                  <a:pt x="8546" y="7186"/>
                </a:lnTo>
                <a:lnTo>
                  <a:pt x="8234" y="7629"/>
                </a:lnTo>
                <a:lnTo>
                  <a:pt x="7932" y="8079"/>
                </a:lnTo>
                <a:lnTo>
                  <a:pt x="7637" y="8537"/>
                </a:lnTo>
                <a:lnTo>
                  <a:pt x="7355" y="9000"/>
                </a:lnTo>
                <a:lnTo>
                  <a:pt x="7079" y="9469"/>
                </a:lnTo>
                <a:lnTo>
                  <a:pt x="6814" y="9944"/>
                </a:lnTo>
                <a:lnTo>
                  <a:pt x="6559" y="10423"/>
                </a:lnTo>
                <a:lnTo>
                  <a:pt x="6315" y="10911"/>
                </a:lnTo>
                <a:lnTo>
                  <a:pt x="6080" y="11403"/>
                </a:lnTo>
                <a:lnTo>
                  <a:pt x="5856" y="11903"/>
                </a:lnTo>
                <a:lnTo>
                  <a:pt x="5641" y="12406"/>
                </a:lnTo>
                <a:lnTo>
                  <a:pt x="5437" y="12913"/>
                </a:lnTo>
                <a:lnTo>
                  <a:pt x="5242" y="13428"/>
                </a:lnTo>
                <a:lnTo>
                  <a:pt x="1706" y="8206"/>
                </a:lnTo>
                <a:lnTo>
                  <a:pt x="319" y="10431"/>
                </a:lnTo>
                <a:lnTo>
                  <a:pt x="0" y="987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61"/>
          <p:cNvSpPr/>
          <p:nvPr/>
        </p:nvSpPr>
        <p:spPr>
          <a:xfrm>
            <a:off x="244440" y="5176800"/>
            <a:ext cx="444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62"/>
          <p:cNvSpPr/>
          <p:nvPr/>
        </p:nvSpPr>
        <p:spPr>
          <a:xfrm>
            <a:off x="1270080" y="542304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63"/>
          <p:cNvSpPr/>
          <p:nvPr/>
        </p:nvSpPr>
        <p:spPr>
          <a:xfrm>
            <a:off x="1989000" y="5375160"/>
            <a:ext cx="484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64"/>
          <p:cNvSpPr/>
          <p:nvPr/>
        </p:nvSpPr>
        <p:spPr>
          <a:xfrm>
            <a:off x="2048040" y="567864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1636560" y="54244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90600" y="5421240"/>
            <a:ext cx="879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67"/>
          <p:cNvSpPr/>
          <p:nvPr/>
        </p:nvSpPr>
        <p:spPr>
          <a:xfrm>
            <a:off x="1270080" y="60739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8"/>
          <p:cNvSpPr/>
          <p:nvPr/>
        </p:nvSpPr>
        <p:spPr>
          <a:xfrm>
            <a:off x="1989000" y="6026040"/>
            <a:ext cx="555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69"/>
          <p:cNvSpPr/>
          <p:nvPr/>
        </p:nvSpPr>
        <p:spPr>
          <a:xfrm>
            <a:off x="2048040" y="6329520"/>
            <a:ext cx="453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70"/>
          <p:cNvSpPr/>
          <p:nvPr/>
        </p:nvSpPr>
        <p:spPr>
          <a:xfrm>
            <a:off x="1636560" y="607536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1"/>
          <p:cNvSpPr/>
          <p:nvPr/>
        </p:nvSpPr>
        <p:spPr>
          <a:xfrm>
            <a:off x="2870280" y="6026040"/>
            <a:ext cx="726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72"/>
          <p:cNvSpPr/>
          <p:nvPr/>
        </p:nvSpPr>
        <p:spPr>
          <a:xfrm>
            <a:off x="2928960" y="6329520"/>
            <a:ext cx="593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3"/>
          <p:cNvSpPr/>
          <p:nvPr/>
        </p:nvSpPr>
        <p:spPr>
          <a:xfrm>
            <a:off x="2517840" y="607536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4"/>
          <p:cNvSpPr/>
          <p:nvPr/>
        </p:nvSpPr>
        <p:spPr>
          <a:xfrm>
            <a:off x="3884760" y="6026040"/>
            <a:ext cx="726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75"/>
          <p:cNvSpPr/>
          <p:nvPr/>
        </p:nvSpPr>
        <p:spPr>
          <a:xfrm>
            <a:off x="3943440" y="6329520"/>
            <a:ext cx="593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3532320" y="607536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7"/>
          <p:cNvSpPr/>
          <p:nvPr/>
        </p:nvSpPr>
        <p:spPr>
          <a:xfrm>
            <a:off x="4538520" y="6072120"/>
            <a:ext cx="114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28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78"/>
          <p:cNvSpPr/>
          <p:nvPr/>
        </p:nvSpPr>
        <p:spPr>
          <a:xfrm>
            <a:off x="426960" y="1309680"/>
            <a:ext cx="712800" cy="595440"/>
          </a:xfrm>
          <a:custGeom>
            <a:avLst/>
            <a:gdLst>
              <a:gd name="textAreaLeft" fmla="*/ 0 w 712800"/>
              <a:gd name="textAreaRight" fmla="*/ 713160 w 7128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16074" h="13428">
                <a:moveTo>
                  <a:pt x="0" y="9878"/>
                </a:moveTo>
                <a:lnTo>
                  <a:pt x="3033" y="5009"/>
                </a:lnTo>
                <a:lnTo>
                  <a:pt x="4897" y="9995"/>
                </a:lnTo>
                <a:lnTo>
                  <a:pt x="5158" y="9602"/>
                </a:lnTo>
                <a:lnTo>
                  <a:pt x="5424" y="9214"/>
                </a:lnTo>
                <a:lnTo>
                  <a:pt x="5696" y="8830"/>
                </a:lnTo>
                <a:lnTo>
                  <a:pt x="5974" y="8453"/>
                </a:lnTo>
                <a:lnTo>
                  <a:pt x="6258" y="8079"/>
                </a:lnTo>
                <a:lnTo>
                  <a:pt x="6548" y="7710"/>
                </a:lnTo>
                <a:lnTo>
                  <a:pt x="7145" y="6986"/>
                </a:lnTo>
                <a:lnTo>
                  <a:pt x="7452" y="6632"/>
                </a:lnTo>
                <a:lnTo>
                  <a:pt x="7764" y="6282"/>
                </a:lnTo>
                <a:lnTo>
                  <a:pt x="8406" y="5599"/>
                </a:lnTo>
                <a:lnTo>
                  <a:pt x="8732" y="5264"/>
                </a:lnTo>
                <a:lnTo>
                  <a:pt x="9067" y="4935"/>
                </a:lnTo>
                <a:lnTo>
                  <a:pt x="9406" y="4612"/>
                </a:lnTo>
                <a:lnTo>
                  <a:pt x="9750" y="4296"/>
                </a:lnTo>
                <a:lnTo>
                  <a:pt x="10098" y="3984"/>
                </a:lnTo>
                <a:lnTo>
                  <a:pt x="10453" y="3677"/>
                </a:lnTo>
                <a:lnTo>
                  <a:pt x="11175" y="3079"/>
                </a:lnTo>
                <a:lnTo>
                  <a:pt x="11544" y="2790"/>
                </a:lnTo>
                <a:lnTo>
                  <a:pt x="11917" y="2506"/>
                </a:lnTo>
                <a:lnTo>
                  <a:pt x="12296" y="2227"/>
                </a:lnTo>
                <a:lnTo>
                  <a:pt x="12677" y="1955"/>
                </a:lnTo>
                <a:lnTo>
                  <a:pt x="13065" y="1688"/>
                </a:lnTo>
                <a:lnTo>
                  <a:pt x="13456" y="1429"/>
                </a:lnTo>
                <a:lnTo>
                  <a:pt x="13853" y="1176"/>
                </a:lnTo>
                <a:lnTo>
                  <a:pt x="14252" y="928"/>
                </a:lnTo>
                <a:lnTo>
                  <a:pt x="14657" y="687"/>
                </a:lnTo>
                <a:lnTo>
                  <a:pt x="15065" y="452"/>
                </a:lnTo>
                <a:lnTo>
                  <a:pt x="15478" y="222"/>
                </a:lnTo>
                <a:lnTo>
                  <a:pt x="15896" y="0"/>
                </a:lnTo>
                <a:lnTo>
                  <a:pt x="16074" y="204"/>
                </a:lnTo>
                <a:lnTo>
                  <a:pt x="15609" y="494"/>
                </a:lnTo>
                <a:lnTo>
                  <a:pt x="15150" y="796"/>
                </a:lnTo>
                <a:lnTo>
                  <a:pt x="14698" y="1104"/>
                </a:lnTo>
                <a:lnTo>
                  <a:pt x="14256" y="1424"/>
                </a:lnTo>
                <a:lnTo>
                  <a:pt x="13819" y="1751"/>
                </a:lnTo>
                <a:lnTo>
                  <a:pt x="13389" y="2087"/>
                </a:lnTo>
                <a:lnTo>
                  <a:pt x="12968" y="2431"/>
                </a:lnTo>
                <a:lnTo>
                  <a:pt x="12555" y="2786"/>
                </a:lnTo>
                <a:lnTo>
                  <a:pt x="12149" y="3145"/>
                </a:lnTo>
                <a:lnTo>
                  <a:pt x="11750" y="3515"/>
                </a:lnTo>
                <a:lnTo>
                  <a:pt x="11360" y="3893"/>
                </a:lnTo>
                <a:lnTo>
                  <a:pt x="10979" y="4279"/>
                </a:lnTo>
                <a:lnTo>
                  <a:pt x="10606" y="4673"/>
                </a:lnTo>
                <a:lnTo>
                  <a:pt x="10240" y="5073"/>
                </a:lnTo>
                <a:lnTo>
                  <a:pt x="9884" y="5481"/>
                </a:lnTo>
                <a:lnTo>
                  <a:pt x="9537" y="5896"/>
                </a:lnTo>
                <a:lnTo>
                  <a:pt x="9196" y="6319"/>
                </a:lnTo>
                <a:lnTo>
                  <a:pt x="8868" y="6749"/>
                </a:lnTo>
                <a:lnTo>
                  <a:pt x="8546" y="7186"/>
                </a:lnTo>
                <a:lnTo>
                  <a:pt x="8234" y="7629"/>
                </a:lnTo>
                <a:lnTo>
                  <a:pt x="7932" y="8079"/>
                </a:lnTo>
                <a:lnTo>
                  <a:pt x="7637" y="8537"/>
                </a:lnTo>
                <a:lnTo>
                  <a:pt x="7355" y="9000"/>
                </a:lnTo>
                <a:lnTo>
                  <a:pt x="7079" y="9469"/>
                </a:lnTo>
                <a:lnTo>
                  <a:pt x="6814" y="9944"/>
                </a:lnTo>
                <a:lnTo>
                  <a:pt x="6559" y="10423"/>
                </a:lnTo>
                <a:lnTo>
                  <a:pt x="6315" y="10911"/>
                </a:lnTo>
                <a:lnTo>
                  <a:pt x="6080" y="11403"/>
                </a:lnTo>
                <a:lnTo>
                  <a:pt x="5856" y="11903"/>
                </a:lnTo>
                <a:lnTo>
                  <a:pt x="5641" y="12406"/>
                </a:lnTo>
                <a:lnTo>
                  <a:pt x="5437" y="12913"/>
                </a:lnTo>
                <a:lnTo>
                  <a:pt x="5242" y="13428"/>
                </a:lnTo>
                <a:lnTo>
                  <a:pt x="1706" y="8206"/>
                </a:lnTo>
                <a:lnTo>
                  <a:pt x="319" y="10431"/>
                </a:lnTo>
                <a:lnTo>
                  <a:pt x="0" y="987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3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3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T Ma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19160" y="103320"/>
            <a:ext cx="8907480" cy="65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1" name="Rectangle 4"/>
            <p:cNvSpPr/>
            <p:nvPr/>
          </p:nvSpPr>
          <p:spPr>
            <a:xfrm>
              <a:off x="0" y="0"/>
              <a:ext cx="9144000" cy="441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5"/>
            <p:cNvSpPr/>
            <p:nvPr/>
          </p:nvSpPr>
          <p:spPr>
            <a:xfrm>
              <a:off x="0" y="4417920"/>
              <a:ext cx="9144000" cy="411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0" y="4829040"/>
              <a:ext cx="9144000" cy="20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4" name="Picture 8" descr="example, light sweep"/>
          <p:cNvPicPr/>
          <p:nvPr/>
        </p:nvPicPr>
        <p:blipFill>
          <a:blip r:embed="rId1"/>
          <a:stretch/>
        </p:blipFill>
        <p:spPr>
          <a:xfrm>
            <a:off x="-109440" y="-28440"/>
            <a:ext cx="936288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T Ma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258920" y="1639800"/>
            <a:ext cx="860400" cy="69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49400" y="133200"/>
            <a:ext cx="8847000" cy="13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A variabl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F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inversely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oportional to a variabl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3,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1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Find the value of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is 4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19160" y="103320"/>
            <a:ext cx="8907480" cy="65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630440" y="2289240"/>
            <a:ext cx="152280" cy="777960"/>
          </a:xfrm>
          <a:prstGeom prst="upArrow">
            <a:avLst>
              <a:gd name="adj1" fmla="val 50000"/>
              <a:gd name="adj2" fmla="val 127719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48520" y="2959200"/>
            <a:ext cx="211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Invers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Propor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816120" y="174132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8"/>
          <p:cNvSpPr/>
          <p:nvPr/>
        </p:nvSpPr>
        <p:spPr>
          <a:xfrm>
            <a:off x="1327320" y="1925640"/>
            <a:ext cx="282240" cy="193680"/>
          </a:xfrm>
          <a:custGeom>
            <a:avLst/>
            <a:gdLst>
              <a:gd name="textAreaLeft" fmla="*/ 0 w 282240"/>
              <a:gd name="textAreaRight" fmla="*/ 282600 w 282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728720" y="1693800"/>
            <a:ext cx="362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1806480" y="1996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12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12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2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12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12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2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12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12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2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T Ma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49400" y="133200"/>
            <a:ext cx="8847000" cy="13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A variabl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F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inversely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oportional to a variabl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3,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1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Find the value of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is 4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19160" y="103320"/>
            <a:ext cx="8907480" cy="65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816120" y="174132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8"/>
          <p:cNvSpPr/>
          <p:nvPr/>
        </p:nvSpPr>
        <p:spPr>
          <a:xfrm>
            <a:off x="1327320" y="1925640"/>
            <a:ext cx="282240" cy="193680"/>
          </a:xfrm>
          <a:custGeom>
            <a:avLst/>
            <a:gdLst>
              <a:gd name="textAreaLeft" fmla="*/ 0 w 282240"/>
              <a:gd name="textAreaRight" fmla="*/ 282600 w 282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1728720" y="1693800"/>
            <a:ext cx="362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1806480" y="1996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816120" y="24400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1960560" y="2392200"/>
            <a:ext cx="36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2038320" y="26956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1182600" y="244152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539720" y="2441520"/>
            <a:ext cx="23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1774800" y="2446200"/>
            <a:ext cx="2491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17"/>
          <p:cNvSpPr/>
          <p:nvPr/>
        </p:nvSpPr>
        <p:spPr>
          <a:xfrm>
            <a:off x="1609560" y="2927520"/>
            <a:ext cx="152640" cy="777600"/>
          </a:xfrm>
          <a:prstGeom prst="upArrow">
            <a:avLst>
              <a:gd name="adj1" fmla="val 50000"/>
              <a:gd name="adj2" fmla="val 127358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1055880" y="3670200"/>
            <a:ext cx="251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Proportion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T Ma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149400" y="133200"/>
            <a:ext cx="8847000" cy="13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A variabl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F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inversely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oportional to a variabl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3,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1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Find the value of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is 4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19160" y="103320"/>
            <a:ext cx="8907480" cy="65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816120" y="174132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5"/>
          <p:cNvSpPr/>
          <p:nvPr/>
        </p:nvSpPr>
        <p:spPr>
          <a:xfrm>
            <a:off x="1327320" y="1925640"/>
            <a:ext cx="282240" cy="193680"/>
          </a:xfrm>
          <a:custGeom>
            <a:avLst/>
            <a:gdLst>
              <a:gd name="textAreaLeft" fmla="*/ 0 w 282240"/>
              <a:gd name="textAreaRight" fmla="*/ 282600 w 282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728720" y="1693800"/>
            <a:ext cx="362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7"/>
          <p:cNvSpPr/>
          <p:nvPr/>
        </p:nvSpPr>
        <p:spPr>
          <a:xfrm>
            <a:off x="1806480" y="1996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816120" y="24400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960560" y="2392200"/>
            <a:ext cx="36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2038320" y="26956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1182600" y="244152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1539720" y="2441520"/>
            <a:ext cx="23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1774800" y="2446200"/>
            <a:ext cx="2491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16"/>
          <p:cNvSpPr/>
          <p:nvPr/>
        </p:nvSpPr>
        <p:spPr>
          <a:xfrm rot="16200000">
            <a:off x="2319120" y="2991960"/>
            <a:ext cx="343080" cy="777960"/>
          </a:xfrm>
          <a:prstGeom prst="upArrow">
            <a:avLst>
              <a:gd name="adj1" fmla="val 50000"/>
              <a:gd name="adj2" fmla="val 566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940120" y="3192480"/>
            <a:ext cx="401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his will be the formula when we find the value of </a:t>
            </a: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819000" y="31320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1519200" y="3084480"/>
            <a:ext cx="362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596960" y="33876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1185840" y="313380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T Ma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49400" y="133200"/>
            <a:ext cx="8847000" cy="13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A variabl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F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inversely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oportional to a variabl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3,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1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Find the value of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is 4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19160" y="103320"/>
            <a:ext cx="8907480" cy="65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816120" y="174132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"/>
          <p:cNvSpPr/>
          <p:nvPr/>
        </p:nvSpPr>
        <p:spPr>
          <a:xfrm>
            <a:off x="1327320" y="1925640"/>
            <a:ext cx="282240" cy="193680"/>
          </a:xfrm>
          <a:custGeom>
            <a:avLst/>
            <a:gdLst>
              <a:gd name="textAreaLeft" fmla="*/ 0 w 282240"/>
              <a:gd name="textAreaRight" fmla="*/ 282600 w 282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728720" y="1693800"/>
            <a:ext cx="362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806480" y="1996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816120" y="24400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960560" y="2392200"/>
            <a:ext cx="361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2038320" y="26956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182600" y="244152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1539720" y="2441520"/>
            <a:ext cx="23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1774800" y="2446200"/>
            <a:ext cx="2491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819000" y="31320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1519200" y="3084480"/>
            <a:ext cx="362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18"/>
          <p:cNvSpPr/>
          <p:nvPr/>
        </p:nvSpPr>
        <p:spPr>
          <a:xfrm>
            <a:off x="1596960" y="33876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19"/>
          <p:cNvSpPr/>
          <p:nvPr/>
        </p:nvSpPr>
        <p:spPr>
          <a:xfrm>
            <a:off x="1185840" y="313380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20"/>
          <p:cNvSpPr/>
          <p:nvPr/>
        </p:nvSpPr>
        <p:spPr>
          <a:xfrm>
            <a:off x="6119640" y="1506600"/>
            <a:ext cx="2849760" cy="2381040"/>
          </a:xfrm>
          <a:custGeom>
            <a:avLst/>
            <a:gdLst>
              <a:gd name="textAreaLeft" fmla="*/ 0 w 2849760"/>
              <a:gd name="textAreaRight" fmla="*/ 2850120 w 2849760"/>
              <a:gd name="textAreaTop" fmla="*/ 0 h 2381040"/>
              <a:gd name="textAreaBottom" fmla="*/ 2381400 h 2381040"/>
            </a:gdLst>
            <a:ahLst/>
            <a:rect l="textAreaLeft" t="textAreaTop" r="textAreaRight" b="textAreaBottom"/>
            <a:pathLst>
              <a:path w="17281" h="17185">
                <a:moveTo>
                  <a:pt x="263" y="481"/>
                </a:moveTo>
                <a:lnTo>
                  <a:pt x="414" y="313"/>
                </a:lnTo>
                <a:lnTo>
                  <a:pt x="565" y="114"/>
                </a:lnTo>
                <a:lnTo>
                  <a:pt x="716" y="198"/>
                </a:lnTo>
                <a:lnTo>
                  <a:pt x="867" y="458"/>
                </a:lnTo>
                <a:lnTo>
                  <a:pt x="1018" y="400"/>
                </a:lnTo>
                <a:lnTo>
                  <a:pt x="1169" y="527"/>
                </a:lnTo>
                <a:lnTo>
                  <a:pt x="1319" y="139"/>
                </a:lnTo>
                <a:lnTo>
                  <a:pt x="1471" y="429"/>
                </a:lnTo>
                <a:lnTo>
                  <a:pt x="1622" y="280"/>
                </a:lnTo>
                <a:lnTo>
                  <a:pt x="1772" y="236"/>
                </a:lnTo>
                <a:lnTo>
                  <a:pt x="1923" y="322"/>
                </a:lnTo>
                <a:lnTo>
                  <a:pt x="2074" y="174"/>
                </a:lnTo>
                <a:lnTo>
                  <a:pt x="2226" y="80"/>
                </a:lnTo>
                <a:lnTo>
                  <a:pt x="2376" y="187"/>
                </a:lnTo>
                <a:lnTo>
                  <a:pt x="2527" y="136"/>
                </a:lnTo>
                <a:lnTo>
                  <a:pt x="2678" y="524"/>
                </a:lnTo>
                <a:lnTo>
                  <a:pt x="2829" y="81"/>
                </a:lnTo>
                <a:lnTo>
                  <a:pt x="2979" y="100"/>
                </a:lnTo>
                <a:lnTo>
                  <a:pt x="3131" y="52"/>
                </a:lnTo>
                <a:lnTo>
                  <a:pt x="3282" y="339"/>
                </a:lnTo>
                <a:lnTo>
                  <a:pt x="3433" y="418"/>
                </a:lnTo>
                <a:lnTo>
                  <a:pt x="3583" y="0"/>
                </a:lnTo>
                <a:lnTo>
                  <a:pt x="3734" y="76"/>
                </a:lnTo>
                <a:lnTo>
                  <a:pt x="3886" y="187"/>
                </a:lnTo>
                <a:lnTo>
                  <a:pt x="4037" y="81"/>
                </a:lnTo>
                <a:lnTo>
                  <a:pt x="4187" y="31"/>
                </a:lnTo>
                <a:lnTo>
                  <a:pt x="4338" y="92"/>
                </a:lnTo>
                <a:lnTo>
                  <a:pt x="4489" y="272"/>
                </a:lnTo>
                <a:lnTo>
                  <a:pt x="4641" y="234"/>
                </a:lnTo>
                <a:lnTo>
                  <a:pt x="4791" y="254"/>
                </a:lnTo>
                <a:lnTo>
                  <a:pt x="4942" y="267"/>
                </a:lnTo>
                <a:lnTo>
                  <a:pt x="5093" y="371"/>
                </a:lnTo>
                <a:lnTo>
                  <a:pt x="5243" y="429"/>
                </a:lnTo>
                <a:lnTo>
                  <a:pt x="5395" y="249"/>
                </a:lnTo>
                <a:lnTo>
                  <a:pt x="5546" y="441"/>
                </a:lnTo>
                <a:lnTo>
                  <a:pt x="5697" y="123"/>
                </a:lnTo>
                <a:lnTo>
                  <a:pt x="5847" y="233"/>
                </a:lnTo>
                <a:lnTo>
                  <a:pt x="5998" y="207"/>
                </a:lnTo>
                <a:lnTo>
                  <a:pt x="6150" y="404"/>
                </a:lnTo>
                <a:lnTo>
                  <a:pt x="6301" y="419"/>
                </a:lnTo>
                <a:lnTo>
                  <a:pt x="6451" y="243"/>
                </a:lnTo>
                <a:lnTo>
                  <a:pt x="6602" y="111"/>
                </a:lnTo>
                <a:lnTo>
                  <a:pt x="6753" y="0"/>
                </a:lnTo>
                <a:lnTo>
                  <a:pt x="6905" y="459"/>
                </a:lnTo>
                <a:lnTo>
                  <a:pt x="7055" y="478"/>
                </a:lnTo>
                <a:lnTo>
                  <a:pt x="7206" y="315"/>
                </a:lnTo>
                <a:lnTo>
                  <a:pt x="7357" y="422"/>
                </a:lnTo>
                <a:lnTo>
                  <a:pt x="7508" y="387"/>
                </a:lnTo>
                <a:lnTo>
                  <a:pt x="7658" y="348"/>
                </a:lnTo>
                <a:lnTo>
                  <a:pt x="7810" y="102"/>
                </a:lnTo>
                <a:lnTo>
                  <a:pt x="7961" y="264"/>
                </a:lnTo>
                <a:lnTo>
                  <a:pt x="8111" y="305"/>
                </a:lnTo>
                <a:lnTo>
                  <a:pt x="8262" y="335"/>
                </a:lnTo>
                <a:lnTo>
                  <a:pt x="8413" y="231"/>
                </a:lnTo>
                <a:lnTo>
                  <a:pt x="8565" y="52"/>
                </a:lnTo>
                <a:lnTo>
                  <a:pt x="8715" y="187"/>
                </a:lnTo>
                <a:lnTo>
                  <a:pt x="8866" y="440"/>
                </a:lnTo>
                <a:lnTo>
                  <a:pt x="9017" y="134"/>
                </a:lnTo>
                <a:lnTo>
                  <a:pt x="9168" y="219"/>
                </a:lnTo>
                <a:lnTo>
                  <a:pt x="9319" y="102"/>
                </a:lnTo>
                <a:lnTo>
                  <a:pt x="9470" y="378"/>
                </a:lnTo>
                <a:lnTo>
                  <a:pt x="9621" y="83"/>
                </a:lnTo>
                <a:lnTo>
                  <a:pt x="9772" y="341"/>
                </a:lnTo>
                <a:lnTo>
                  <a:pt x="9922" y="432"/>
                </a:lnTo>
                <a:lnTo>
                  <a:pt x="10074" y="343"/>
                </a:lnTo>
                <a:lnTo>
                  <a:pt x="10225" y="55"/>
                </a:lnTo>
                <a:lnTo>
                  <a:pt x="10376" y="175"/>
                </a:lnTo>
                <a:lnTo>
                  <a:pt x="10526" y="419"/>
                </a:lnTo>
                <a:lnTo>
                  <a:pt x="10677" y="320"/>
                </a:lnTo>
                <a:lnTo>
                  <a:pt x="10829" y="225"/>
                </a:lnTo>
                <a:lnTo>
                  <a:pt x="10980" y="122"/>
                </a:lnTo>
                <a:lnTo>
                  <a:pt x="11130" y="100"/>
                </a:lnTo>
                <a:lnTo>
                  <a:pt x="11281" y="2"/>
                </a:lnTo>
                <a:lnTo>
                  <a:pt x="11432" y="235"/>
                </a:lnTo>
                <a:lnTo>
                  <a:pt x="11582" y="20"/>
                </a:lnTo>
                <a:lnTo>
                  <a:pt x="11734" y="200"/>
                </a:lnTo>
                <a:lnTo>
                  <a:pt x="11885" y="517"/>
                </a:lnTo>
                <a:lnTo>
                  <a:pt x="12036" y="505"/>
                </a:lnTo>
                <a:lnTo>
                  <a:pt x="12186" y="354"/>
                </a:lnTo>
                <a:lnTo>
                  <a:pt x="12337" y="200"/>
                </a:lnTo>
                <a:lnTo>
                  <a:pt x="12489" y="339"/>
                </a:lnTo>
                <a:lnTo>
                  <a:pt x="12640" y="70"/>
                </a:lnTo>
                <a:lnTo>
                  <a:pt x="12790" y="498"/>
                </a:lnTo>
                <a:lnTo>
                  <a:pt x="12941" y="455"/>
                </a:lnTo>
                <a:lnTo>
                  <a:pt x="13092" y="32"/>
                </a:lnTo>
                <a:lnTo>
                  <a:pt x="13244" y="137"/>
                </a:lnTo>
                <a:lnTo>
                  <a:pt x="13394" y="192"/>
                </a:lnTo>
                <a:lnTo>
                  <a:pt x="13545" y="500"/>
                </a:lnTo>
                <a:lnTo>
                  <a:pt x="13696" y="142"/>
                </a:lnTo>
                <a:lnTo>
                  <a:pt x="13847" y="295"/>
                </a:lnTo>
                <a:lnTo>
                  <a:pt x="13997" y="524"/>
                </a:lnTo>
                <a:lnTo>
                  <a:pt x="14149" y="491"/>
                </a:lnTo>
                <a:lnTo>
                  <a:pt x="14300" y="420"/>
                </a:lnTo>
                <a:lnTo>
                  <a:pt x="14450" y="339"/>
                </a:lnTo>
                <a:lnTo>
                  <a:pt x="14601" y="379"/>
                </a:lnTo>
                <a:lnTo>
                  <a:pt x="14752" y="93"/>
                </a:lnTo>
                <a:lnTo>
                  <a:pt x="14904" y="294"/>
                </a:lnTo>
                <a:lnTo>
                  <a:pt x="15054" y="22"/>
                </a:lnTo>
                <a:lnTo>
                  <a:pt x="15205" y="213"/>
                </a:lnTo>
                <a:lnTo>
                  <a:pt x="15356" y="120"/>
                </a:lnTo>
                <a:lnTo>
                  <a:pt x="15507" y="170"/>
                </a:lnTo>
                <a:lnTo>
                  <a:pt x="15658" y="36"/>
                </a:lnTo>
                <a:lnTo>
                  <a:pt x="15809" y="535"/>
                </a:lnTo>
                <a:lnTo>
                  <a:pt x="15960" y="181"/>
                </a:lnTo>
                <a:lnTo>
                  <a:pt x="16111" y="254"/>
                </a:lnTo>
                <a:lnTo>
                  <a:pt x="16261" y="266"/>
                </a:lnTo>
                <a:lnTo>
                  <a:pt x="16413" y="476"/>
                </a:lnTo>
                <a:lnTo>
                  <a:pt x="16564" y="328"/>
                </a:lnTo>
                <a:lnTo>
                  <a:pt x="16715" y="231"/>
                </a:lnTo>
                <a:lnTo>
                  <a:pt x="16865" y="247"/>
                </a:lnTo>
                <a:lnTo>
                  <a:pt x="17272" y="268"/>
                </a:lnTo>
                <a:lnTo>
                  <a:pt x="17224" y="419"/>
                </a:lnTo>
                <a:lnTo>
                  <a:pt x="17013" y="570"/>
                </a:lnTo>
                <a:lnTo>
                  <a:pt x="16779" y="722"/>
                </a:lnTo>
                <a:lnTo>
                  <a:pt x="17011" y="873"/>
                </a:lnTo>
                <a:lnTo>
                  <a:pt x="16992" y="1024"/>
                </a:lnTo>
                <a:lnTo>
                  <a:pt x="16952" y="1176"/>
                </a:lnTo>
                <a:lnTo>
                  <a:pt x="17207" y="1327"/>
                </a:lnTo>
                <a:lnTo>
                  <a:pt x="16781" y="1478"/>
                </a:lnTo>
                <a:lnTo>
                  <a:pt x="17245" y="1629"/>
                </a:lnTo>
                <a:lnTo>
                  <a:pt x="16878" y="1781"/>
                </a:lnTo>
                <a:lnTo>
                  <a:pt x="17264" y="1933"/>
                </a:lnTo>
                <a:lnTo>
                  <a:pt x="16815" y="2084"/>
                </a:lnTo>
                <a:lnTo>
                  <a:pt x="16838" y="2236"/>
                </a:lnTo>
                <a:lnTo>
                  <a:pt x="16987" y="2387"/>
                </a:lnTo>
                <a:lnTo>
                  <a:pt x="17200" y="2538"/>
                </a:lnTo>
                <a:lnTo>
                  <a:pt x="16825" y="2689"/>
                </a:lnTo>
                <a:lnTo>
                  <a:pt x="17157" y="2841"/>
                </a:lnTo>
                <a:lnTo>
                  <a:pt x="17220" y="2992"/>
                </a:lnTo>
                <a:lnTo>
                  <a:pt x="17005" y="3143"/>
                </a:lnTo>
                <a:lnTo>
                  <a:pt x="17125" y="3294"/>
                </a:lnTo>
                <a:lnTo>
                  <a:pt x="17183" y="3446"/>
                </a:lnTo>
                <a:lnTo>
                  <a:pt x="16800" y="3597"/>
                </a:lnTo>
                <a:lnTo>
                  <a:pt x="16796" y="3748"/>
                </a:lnTo>
                <a:lnTo>
                  <a:pt x="16760" y="3900"/>
                </a:lnTo>
                <a:lnTo>
                  <a:pt x="17059" y="4052"/>
                </a:lnTo>
                <a:lnTo>
                  <a:pt x="16780" y="4203"/>
                </a:lnTo>
                <a:lnTo>
                  <a:pt x="16757" y="4354"/>
                </a:lnTo>
                <a:lnTo>
                  <a:pt x="17219" y="4506"/>
                </a:lnTo>
                <a:lnTo>
                  <a:pt x="17190" y="4657"/>
                </a:lnTo>
                <a:lnTo>
                  <a:pt x="17160" y="4808"/>
                </a:lnTo>
                <a:lnTo>
                  <a:pt x="17274" y="4960"/>
                </a:lnTo>
                <a:lnTo>
                  <a:pt x="17010" y="5111"/>
                </a:lnTo>
                <a:lnTo>
                  <a:pt x="16875" y="5262"/>
                </a:lnTo>
                <a:lnTo>
                  <a:pt x="17040" y="5413"/>
                </a:lnTo>
                <a:lnTo>
                  <a:pt x="16914" y="5565"/>
                </a:lnTo>
                <a:lnTo>
                  <a:pt x="16977" y="5717"/>
                </a:lnTo>
                <a:lnTo>
                  <a:pt x="17234" y="5868"/>
                </a:lnTo>
                <a:lnTo>
                  <a:pt x="16898" y="6020"/>
                </a:lnTo>
                <a:lnTo>
                  <a:pt x="16947" y="6171"/>
                </a:lnTo>
                <a:lnTo>
                  <a:pt x="16751" y="6322"/>
                </a:lnTo>
                <a:lnTo>
                  <a:pt x="16852" y="6473"/>
                </a:lnTo>
                <a:lnTo>
                  <a:pt x="16965" y="6625"/>
                </a:lnTo>
                <a:lnTo>
                  <a:pt x="17156" y="6776"/>
                </a:lnTo>
                <a:lnTo>
                  <a:pt x="16890" y="6927"/>
                </a:lnTo>
                <a:lnTo>
                  <a:pt x="17273" y="7078"/>
                </a:lnTo>
                <a:lnTo>
                  <a:pt x="17212" y="7230"/>
                </a:lnTo>
                <a:lnTo>
                  <a:pt x="17020" y="7381"/>
                </a:lnTo>
                <a:lnTo>
                  <a:pt x="16761" y="7532"/>
                </a:lnTo>
                <a:lnTo>
                  <a:pt x="17052" y="7685"/>
                </a:lnTo>
                <a:lnTo>
                  <a:pt x="17225" y="7836"/>
                </a:lnTo>
                <a:lnTo>
                  <a:pt x="17225" y="7987"/>
                </a:lnTo>
                <a:lnTo>
                  <a:pt x="16779" y="8138"/>
                </a:lnTo>
                <a:lnTo>
                  <a:pt x="16921" y="8290"/>
                </a:lnTo>
                <a:lnTo>
                  <a:pt x="17195" y="8441"/>
                </a:lnTo>
                <a:lnTo>
                  <a:pt x="16761" y="8592"/>
                </a:lnTo>
                <a:lnTo>
                  <a:pt x="17248" y="8744"/>
                </a:lnTo>
                <a:lnTo>
                  <a:pt x="16904" y="8895"/>
                </a:lnTo>
                <a:lnTo>
                  <a:pt x="17219" y="9046"/>
                </a:lnTo>
                <a:lnTo>
                  <a:pt x="17244" y="9198"/>
                </a:lnTo>
                <a:lnTo>
                  <a:pt x="17012" y="9350"/>
                </a:lnTo>
                <a:lnTo>
                  <a:pt x="17181" y="9501"/>
                </a:lnTo>
                <a:lnTo>
                  <a:pt x="17206" y="9652"/>
                </a:lnTo>
                <a:lnTo>
                  <a:pt x="16804" y="9804"/>
                </a:lnTo>
                <a:lnTo>
                  <a:pt x="17076" y="9955"/>
                </a:lnTo>
                <a:lnTo>
                  <a:pt x="16984" y="10106"/>
                </a:lnTo>
                <a:lnTo>
                  <a:pt x="17281" y="10257"/>
                </a:lnTo>
                <a:lnTo>
                  <a:pt x="17017" y="10409"/>
                </a:lnTo>
                <a:lnTo>
                  <a:pt x="16821" y="10560"/>
                </a:lnTo>
                <a:lnTo>
                  <a:pt x="16879" y="10711"/>
                </a:lnTo>
                <a:lnTo>
                  <a:pt x="17213" y="10862"/>
                </a:lnTo>
                <a:lnTo>
                  <a:pt x="17146" y="11014"/>
                </a:lnTo>
                <a:lnTo>
                  <a:pt x="17090" y="11165"/>
                </a:lnTo>
                <a:lnTo>
                  <a:pt x="17090" y="11317"/>
                </a:lnTo>
                <a:lnTo>
                  <a:pt x="16917" y="11469"/>
                </a:lnTo>
                <a:lnTo>
                  <a:pt x="17022" y="11620"/>
                </a:lnTo>
                <a:lnTo>
                  <a:pt x="17262" y="11771"/>
                </a:lnTo>
                <a:lnTo>
                  <a:pt x="17230" y="11922"/>
                </a:lnTo>
                <a:lnTo>
                  <a:pt x="17083" y="12074"/>
                </a:lnTo>
                <a:lnTo>
                  <a:pt x="16818" y="12225"/>
                </a:lnTo>
                <a:lnTo>
                  <a:pt x="16798" y="12376"/>
                </a:lnTo>
                <a:lnTo>
                  <a:pt x="17078" y="12528"/>
                </a:lnTo>
                <a:lnTo>
                  <a:pt x="17146" y="12679"/>
                </a:lnTo>
                <a:lnTo>
                  <a:pt x="16762" y="12830"/>
                </a:lnTo>
                <a:lnTo>
                  <a:pt x="16989" y="12981"/>
                </a:lnTo>
                <a:lnTo>
                  <a:pt x="16787" y="13133"/>
                </a:lnTo>
                <a:lnTo>
                  <a:pt x="17197" y="13285"/>
                </a:lnTo>
                <a:lnTo>
                  <a:pt x="16854" y="13436"/>
                </a:lnTo>
                <a:lnTo>
                  <a:pt x="16749" y="13588"/>
                </a:lnTo>
                <a:lnTo>
                  <a:pt x="17223" y="13739"/>
                </a:lnTo>
                <a:lnTo>
                  <a:pt x="17251" y="13890"/>
                </a:lnTo>
                <a:lnTo>
                  <a:pt x="16971" y="14041"/>
                </a:lnTo>
                <a:lnTo>
                  <a:pt x="16952" y="14193"/>
                </a:lnTo>
                <a:lnTo>
                  <a:pt x="17218" y="14344"/>
                </a:lnTo>
                <a:lnTo>
                  <a:pt x="17269" y="14495"/>
                </a:lnTo>
                <a:lnTo>
                  <a:pt x="16875" y="14646"/>
                </a:lnTo>
                <a:lnTo>
                  <a:pt x="16970" y="14798"/>
                </a:lnTo>
                <a:lnTo>
                  <a:pt x="17037" y="14950"/>
                </a:lnTo>
                <a:lnTo>
                  <a:pt x="17260" y="15101"/>
                </a:lnTo>
                <a:lnTo>
                  <a:pt x="17034" y="15253"/>
                </a:lnTo>
                <a:lnTo>
                  <a:pt x="16842" y="15404"/>
                </a:lnTo>
                <a:lnTo>
                  <a:pt x="16777" y="15555"/>
                </a:lnTo>
                <a:lnTo>
                  <a:pt x="17099" y="15706"/>
                </a:lnTo>
                <a:lnTo>
                  <a:pt x="17113" y="15858"/>
                </a:lnTo>
                <a:lnTo>
                  <a:pt x="16785" y="16009"/>
                </a:lnTo>
                <a:lnTo>
                  <a:pt x="16846" y="16160"/>
                </a:lnTo>
                <a:lnTo>
                  <a:pt x="16987" y="16312"/>
                </a:lnTo>
                <a:lnTo>
                  <a:pt x="16777" y="16463"/>
                </a:lnTo>
                <a:lnTo>
                  <a:pt x="17246" y="16615"/>
                </a:lnTo>
                <a:lnTo>
                  <a:pt x="16755" y="16765"/>
                </a:lnTo>
                <a:lnTo>
                  <a:pt x="17016" y="17030"/>
                </a:lnTo>
                <a:lnTo>
                  <a:pt x="16865" y="17185"/>
                </a:lnTo>
                <a:lnTo>
                  <a:pt x="16715" y="17048"/>
                </a:lnTo>
                <a:lnTo>
                  <a:pt x="16564" y="17170"/>
                </a:lnTo>
                <a:lnTo>
                  <a:pt x="16413" y="16921"/>
                </a:lnTo>
                <a:lnTo>
                  <a:pt x="16261" y="17148"/>
                </a:lnTo>
                <a:lnTo>
                  <a:pt x="16111" y="16652"/>
                </a:lnTo>
                <a:lnTo>
                  <a:pt x="15960" y="17137"/>
                </a:lnTo>
                <a:lnTo>
                  <a:pt x="15809" y="17090"/>
                </a:lnTo>
                <a:lnTo>
                  <a:pt x="15658" y="17032"/>
                </a:lnTo>
                <a:lnTo>
                  <a:pt x="15507" y="16740"/>
                </a:lnTo>
                <a:lnTo>
                  <a:pt x="15356" y="17081"/>
                </a:lnTo>
                <a:lnTo>
                  <a:pt x="15205" y="16737"/>
                </a:lnTo>
                <a:lnTo>
                  <a:pt x="15054" y="17175"/>
                </a:lnTo>
                <a:lnTo>
                  <a:pt x="14904" y="16830"/>
                </a:lnTo>
                <a:lnTo>
                  <a:pt x="14752" y="17123"/>
                </a:lnTo>
                <a:lnTo>
                  <a:pt x="14601" y="17085"/>
                </a:lnTo>
                <a:lnTo>
                  <a:pt x="14450" y="16942"/>
                </a:lnTo>
                <a:lnTo>
                  <a:pt x="14300" y="16980"/>
                </a:lnTo>
                <a:lnTo>
                  <a:pt x="14149" y="16977"/>
                </a:lnTo>
                <a:lnTo>
                  <a:pt x="13997" y="16894"/>
                </a:lnTo>
                <a:lnTo>
                  <a:pt x="13847" y="16960"/>
                </a:lnTo>
                <a:lnTo>
                  <a:pt x="13696" y="16789"/>
                </a:lnTo>
                <a:lnTo>
                  <a:pt x="13545" y="16888"/>
                </a:lnTo>
                <a:lnTo>
                  <a:pt x="13394" y="16948"/>
                </a:lnTo>
                <a:lnTo>
                  <a:pt x="13244" y="17016"/>
                </a:lnTo>
                <a:lnTo>
                  <a:pt x="13092" y="16682"/>
                </a:lnTo>
                <a:lnTo>
                  <a:pt x="12941" y="17069"/>
                </a:lnTo>
                <a:lnTo>
                  <a:pt x="12790" y="16738"/>
                </a:lnTo>
                <a:lnTo>
                  <a:pt x="12640" y="16926"/>
                </a:lnTo>
                <a:lnTo>
                  <a:pt x="12489" y="16674"/>
                </a:lnTo>
                <a:lnTo>
                  <a:pt x="12337" y="17159"/>
                </a:lnTo>
                <a:lnTo>
                  <a:pt x="12186" y="16928"/>
                </a:lnTo>
                <a:lnTo>
                  <a:pt x="12036" y="16744"/>
                </a:lnTo>
                <a:lnTo>
                  <a:pt x="11885" y="16666"/>
                </a:lnTo>
                <a:lnTo>
                  <a:pt x="11734" y="17037"/>
                </a:lnTo>
                <a:lnTo>
                  <a:pt x="11582" y="16737"/>
                </a:lnTo>
                <a:lnTo>
                  <a:pt x="11432" y="17145"/>
                </a:lnTo>
                <a:lnTo>
                  <a:pt x="11281" y="16661"/>
                </a:lnTo>
                <a:lnTo>
                  <a:pt x="11130" y="16759"/>
                </a:lnTo>
                <a:lnTo>
                  <a:pt x="10980" y="17139"/>
                </a:lnTo>
                <a:lnTo>
                  <a:pt x="10829" y="16895"/>
                </a:lnTo>
                <a:lnTo>
                  <a:pt x="10677" y="16665"/>
                </a:lnTo>
                <a:lnTo>
                  <a:pt x="10526" y="16930"/>
                </a:lnTo>
                <a:lnTo>
                  <a:pt x="10376" y="16857"/>
                </a:lnTo>
                <a:lnTo>
                  <a:pt x="10225" y="16852"/>
                </a:lnTo>
                <a:lnTo>
                  <a:pt x="10074" y="16820"/>
                </a:lnTo>
                <a:lnTo>
                  <a:pt x="9922" y="16767"/>
                </a:lnTo>
                <a:lnTo>
                  <a:pt x="9772" y="16905"/>
                </a:lnTo>
                <a:lnTo>
                  <a:pt x="9621" y="17180"/>
                </a:lnTo>
                <a:lnTo>
                  <a:pt x="9470" y="16973"/>
                </a:lnTo>
                <a:lnTo>
                  <a:pt x="9319" y="17057"/>
                </a:lnTo>
                <a:lnTo>
                  <a:pt x="9168" y="16879"/>
                </a:lnTo>
                <a:lnTo>
                  <a:pt x="9017" y="16706"/>
                </a:lnTo>
                <a:lnTo>
                  <a:pt x="8866" y="16787"/>
                </a:lnTo>
                <a:lnTo>
                  <a:pt x="8715" y="16682"/>
                </a:lnTo>
                <a:lnTo>
                  <a:pt x="8565" y="17134"/>
                </a:lnTo>
                <a:lnTo>
                  <a:pt x="8413" y="16662"/>
                </a:lnTo>
                <a:lnTo>
                  <a:pt x="8262" y="16669"/>
                </a:lnTo>
                <a:lnTo>
                  <a:pt x="8111" y="16881"/>
                </a:lnTo>
                <a:lnTo>
                  <a:pt x="7961" y="17058"/>
                </a:lnTo>
                <a:lnTo>
                  <a:pt x="7810" y="16811"/>
                </a:lnTo>
                <a:lnTo>
                  <a:pt x="7658" y="16839"/>
                </a:lnTo>
                <a:lnTo>
                  <a:pt x="7508" y="17106"/>
                </a:lnTo>
                <a:lnTo>
                  <a:pt x="7357" y="17107"/>
                </a:lnTo>
                <a:lnTo>
                  <a:pt x="7206" y="16922"/>
                </a:lnTo>
                <a:lnTo>
                  <a:pt x="7055" y="17007"/>
                </a:lnTo>
                <a:lnTo>
                  <a:pt x="6905" y="17182"/>
                </a:lnTo>
                <a:lnTo>
                  <a:pt x="6753" y="16969"/>
                </a:lnTo>
                <a:lnTo>
                  <a:pt x="6602" y="16973"/>
                </a:lnTo>
                <a:lnTo>
                  <a:pt x="6451" y="17157"/>
                </a:lnTo>
                <a:lnTo>
                  <a:pt x="6301" y="17116"/>
                </a:lnTo>
                <a:lnTo>
                  <a:pt x="6150" y="16990"/>
                </a:lnTo>
                <a:lnTo>
                  <a:pt x="5998" y="16702"/>
                </a:lnTo>
                <a:lnTo>
                  <a:pt x="5847" y="17094"/>
                </a:lnTo>
                <a:lnTo>
                  <a:pt x="5697" y="16942"/>
                </a:lnTo>
                <a:lnTo>
                  <a:pt x="5546" y="16832"/>
                </a:lnTo>
                <a:lnTo>
                  <a:pt x="5395" y="17004"/>
                </a:lnTo>
                <a:lnTo>
                  <a:pt x="5243" y="16884"/>
                </a:lnTo>
                <a:lnTo>
                  <a:pt x="5093" y="17076"/>
                </a:lnTo>
                <a:lnTo>
                  <a:pt x="4942" y="16900"/>
                </a:lnTo>
                <a:lnTo>
                  <a:pt x="4791" y="16813"/>
                </a:lnTo>
                <a:lnTo>
                  <a:pt x="4641" y="16871"/>
                </a:lnTo>
                <a:lnTo>
                  <a:pt x="4489" y="16716"/>
                </a:lnTo>
                <a:lnTo>
                  <a:pt x="4338" y="17028"/>
                </a:lnTo>
                <a:lnTo>
                  <a:pt x="4187" y="17105"/>
                </a:lnTo>
                <a:lnTo>
                  <a:pt x="4037" y="16753"/>
                </a:lnTo>
                <a:lnTo>
                  <a:pt x="3886" y="16688"/>
                </a:lnTo>
                <a:lnTo>
                  <a:pt x="3734" y="16875"/>
                </a:lnTo>
                <a:lnTo>
                  <a:pt x="3583" y="17059"/>
                </a:lnTo>
                <a:lnTo>
                  <a:pt x="3433" y="16686"/>
                </a:lnTo>
                <a:lnTo>
                  <a:pt x="3282" y="16728"/>
                </a:lnTo>
                <a:lnTo>
                  <a:pt x="3131" y="16874"/>
                </a:lnTo>
                <a:lnTo>
                  <a:pt x="2979" y="16702"/>
                </a:lnTo>
                <a:lnTo>
                  <a:pt x="2829" y="16670"/>
                </a:lnTo>
                <a:lnTo>
                  <a:pt x="2678" y="16864"/>
                </a:lnTo>
                <a:lnTo>
                  <a:pt x="2527" y="17143"/>
                </a:lnTo>
                <a:lnTo>
                  <a:pt x="2376" y="16985"/>
                </a:lnTo>
                <a:lnTo>
                  <a:pt x="2226" y="16655"/>
                </a:lnTo>
                <a:lnTo>
                  <a:pt x="2074" y="17152"/>
                </a:lnTo>
                <a:lnTo>
                  <a:pt x="1923" y="16967"/>
                </a:lnTo>
                <a:lnTo>
                  <a:pt x="1772" y="17108"/>
                </a:lnTo>
                <a:lnTo>
                  <a:pt x="1622" y="16852"/>
                </a:lnTo>
                <a:lnTo>
                  <a:pt x="1471" y="16832"/>
                </a:lnTo>
                <a:lnTo>
                  <a:pt x="1319" y="17143"/>
                </a:lnTo>
                <a:lnTo>
                  <a:pt x="1169" y="16695"/>
                </a:lnTo>
                <a:lnTo>
                  <a:pt x="1018" y="16900"/>
                </a:lnTo>
                <a:lnTo>
                  <a:pt x="867" y="16868"/>
                </a:lnTo>
                <a:lnTo>
                  <a:pt x="716" y="17006"/>
                </a:lnTo>
                <a:lnTo>
                  <a:pt x="565" y="16731"/>
                </a:lnTo>
                <a:lnTo>
                  <a:pt x="414" y="17165"/>
                </a:lnTo>
                <a:lnTo>
                  <a:pt x="501" y="16917"/>
                </a:lnTo>
                <a:lnTo>
                  <a:pt x="156" y="16767"/>
                </a:lnTo>
                <a:lnTo>
                  <a:pt x="524" y="16614"/>
                </a:lnTo>
                <a:lnTo>
                  <a:pt x="135" y="16463"/>
                </a:lnTo>
                <a:lnTo>
                  <a:pt x="60" y="16312"/>
                </a:lnTo>
                <a:lnTo>
                  <a:pt x="517" y="16160"/>
                </a:lnTo>
                <a:lnTo>
                  <a:pt x="82" y="16009"/>
                </a:lnTo>
                <a:lnTo>
                  <a:pt x="396" y="15858"/>
                </a:lnTo>
                <a:lnTo>
                  <a:pt x="433" y="15706"/>
                </a:lnTo>
                <a:lnTo>
                  <a:pt x="398" y="15555"/>
                </a:lnTo>
                <a:lnTo>
                  <a:pt x="134" y="15404"/>
                </a:lnTo>
                <a:lnTo>
                  <a:pt x="51" y="15253"/>
                </a:lnTo>
                <a:lnTo>
                  <a:pt x="2" y="15101"/>
                </a:lnTo>
                <a:lnTo>
                  <a:pt x="406" y="14949"/>
                </a:lnTo>
                <a:lnTo>
                  <a:pt x="61" y="14798"/>
                </a:lnTo>
                <a:lnTo>
                  <a:pt x="292" y="14646"/>
                </a:lnTo>
                <a:lnTo>
                  <a:pt x="97" y="14495"/>
                </a:lnTo>
                <a:lnTo>
                  <a:pt x="354" y="14344"/>
                </a:lnTo>
                <a:lnTo>
                  <a:pt x="28" y="14193"/>
                </a:lnTo>
                <a:lnTo>
                  <a:pt x="482" y="14041"/>
                </a:lnTo>
                <a:lnTo>
                  <a:pt x="137" y="13890"/>
                </a:lnTo>
                <a:lnTo>
                  <a:pt x="78" y="13739"/>
                </a:lnTo>
                <a:lnTo>
                  <a:pt x="81" y="13588"/>
                </a:lnTo>
                <a:lnTo>
                  <a:pt x="487" y="13436"/>
                </a:lnTo>
                <a:lnTo>
                  <a:pt x="215" y="13285"/>
                </a:lnTo>
                <a:lnTo>
                  <a:pt x="471" y="13133"/>
                </a:lnTo>
                <a:lnTo>
                  <a:pt x="185" y="12981"/>
                </a:lnTo>
                <a:lnTo>
                  <a:pt x="257" y="12830"/>
                </a:lnTo>
                <a:lnTo>
                  <a:pt x="167" y="12679"/>
                </a:lnTo>
                <a:lnTo>
                  <a:pt x="44" y="12528"/>
                </a:lnTo>
                <a:lnTo>
                  <a:pt x="283" y="12376"/>
                </a:lnTo>
                <a:lnTo>
                  <a:pt x="364" y="12225"/>
                </a:lnTo>
                <a:lnTo>
                  <a:pt x="2" y="12074"/>
                </a:lnTo>
                <a:lnTo>
                  <a:pt x="273" y="11922"/>
                </a:lnTo>
                <a:lnTo>
                  <a:pt x="309" y="11771"/>
                </a:lnTo>
                <a:lnTo>
                  <a:pt x="32" y="11620"/>
                </a:lnTo>
                <a:lnTo>
                  <a:pt x="414" y="11469"/>
                </a:lnTo>
                <a:lnTo>
                  <a:pt x="506" y="11316"/>
                </a:lnTo>
                <a:lnTo>
                  <a:pt x="335" y="11165"/>
                </a:lnTo>
                <a:lnTo>
                  <a:pt x="118" y="11014"/>
                </a:lnTo>
                <a:lnTo>
                  <a:pt x="192" y="10862"/>
                </a:lnTo>
                <a:lnTo>
                  <a:pt x="31" y="10711"/>
                </a:lnTo>
                <a:lnTo>
                  <a:pt x="223" y="10560"/>
                </a:lnTo>
                <a:lnTo>
                  <a:pt x="48" y="10409"/>
                </a:lnTo>
                <a:lnTo>
                  <a:pt x="517" y="10257"/>
                </a:lnTo>
                <a:lnTo>
                  <a:pt x="422" y="10106"/>
                </a:lnTo>
                <a:lnTo>
                  <a:pt x="59" y="9955"/>
                </a:lnTo>
                <a:lnTo>
                  <a:pt x="492" y="9804"/>
                </a:lnTo>
                <a:lnTo>
                  <a:pt x="90" y="9652"/>
                </a:lnTo>
                <a:lnTo>
                  <a:pt x="475" y="9501"/>
                </a:lnTo>
                <a:lnTo>
                  <a:pt x="191" y="9350"/>
                </a:lnTo>
                <a:lnTo>
                  <a:pt x="218" y="9197"/>
                </a:lnTo>
                <a:lnTo>
                  <a:pt x="205" y="9046"/>
                </a:lnTo>
                <a:lnTo>
                  <a:pt x="16" y="8895"/>
                </a:lnTo>
                <a:lnTo>
                  <a:pt x="531" y="8744"/>
                </a:lnTo>
                <a:lnTo>
                  <a:pt x="10" y="8592"/>
                </a:lnTo>
                <a:lnTo>
                  <a:pt x="470" y="8441"/>
                </a:lnTo>
                <a:lnTo>
                  <a:pt x="17" y="8290"/>
                </a:lnTo>
                <a:lnTo>
                  <a:pt x="106" y="8138"/>
                </a:lnTo>
                <a:lnTo>
                  <a:pt x="436" y="7987"/>
                </a:lnTo>
                <a:lnTo>
                  <a:pt x="17" y="7836"/>
                </a:lnTo>
                <a:lnTo>
                  <a:pt x="252" y="7685"/>
                </a:lnTo>
                <a:lnTo>
                  <a:pt x="273" y="7533"/>
                </a:lnTo>
                <a:lnTo>
                  <a:pt x="493" y="7381"/>
                </a:lnTo>
                <a:lnTo>
                  <a:pt x="485" y="7230"/>
                </a:lnTo>
                <a:lnTo>
                  <a:pt x="240" y="7078"/>
                </a:lnTo>
                <a:lnTo>
                  <a:pt x="216" y="6927"/>
                </a:lnTo>
                <a:lnTo>
                  <a:pt x="0" y="6776"/>
                </a:lnTo>
                <a:lnTo>
                  <a:pt x="331" y="6625"/>
                </a:lnTo>
                <a:lnTo>
                  <a:pt x="359" y="6473"/>
                </a:lnTo>
                <a:lnTo>
                  <a:pt x="517" y="6322"/>
                </a:lnTo>
                <a:lnTo>
                  <a:pt x="403" y="6171"/>
                </a:lnTo>
                <a:lnTo>
                  <a:pt x="433" y="6020"/>
                </a:lnTo>
                <a:lnTo>
                  <a:pt x="309" y="5868"/>
                </a:lnTo>
                <a:lnTo>
                  <a:pt x="173" y="5717"/>
                </a:lnTo>
                <a:lnTo>
                  <a:pt x="462" y="5565"/>
                </a:lnTo>
                <a:lnTo>
                  <a:pt x="323" y="5413"/>
                </a:lnTo>
                <a:lnTo>
                  <a:pt x="403" y="5262"/>
                </a:lnTo>
                <a:lnTo>
                  <a:pt x="187" y="5111"/>
                </a:lnTo>
                <a:lnTo>
                  <a:pt x="216" y="4960"/>
                </a:lnTo>
                <a:lnTo>
                  <a:pt x="150" y="4808"/>
                </a:lnTo>
                <a:lnTo>
                  <a:pt x="172" y="4657"/>
                </a:lnTo>
                <a:lnTo>
                  <a:pt x="163" y="4506"/>
                </a:lnTo>
                <a:lnTo>
                  <a:pt x="92" y="4354"/>
                </a:lnTo>
                <a:lnTo>
                  <a:pt x="101" y="4203"/>
                </a:lnTo>
                <a:lnTo>
                  <a:pt x="295" y="4052"/>
                </a:lnTo>
                <a:lnTo>
                  <a:pt x="496" y="3900"/>
                </a:lnTo>
                <a:lnTo>
                  <a:pt x="466" y="3748"/>
                </a:lnTo>
                <a:lnTo>
                  <a:pt x="19" y="3598"/>
                </a:lnTo>
                <a:lnTo>
                  <a:pt x="205" y="3446"/>
                </a:lnTo>
                <a:lnTo>
                  <a:pt x="363" y="3294"/>
                </a:lnTo>
                <a:lnTo>
                  <a:pt x="351" y="3143"/>
                </a:lnTo>
                <a:lnTo>
                  <a:pt x="63" y="2992"/>
                </a:lnTo>
                <a:lnTo>
                  <a:pt x="67" y="2841"/>
                </a:lnTo>
                <a:lnTo>
                  <a:pt x="328" y="2689"/>
                </a:lnTo>
                <a:lnTo>
                  <a:pt x="6" y="2538"/>
                </a:lnTo>
                <a:lnTo>
                  <a:pt x="315" y="2387"/>
                </a:lnTo>
                <a:lnTo>
                  <a:pt x="526" y="2236"/>
                </a:lnTo>
                <a:lnTo>
                  <a:pt x="320" y="2084"/>
                </a:lnTo>
                <a:lnTo>
                  <a:pt x="216" y="1933"/>
                </a:lnTo>
                <a:lnTo>
                  <a:pt x="203" y="1781"/>
                </a:lnTo>
                <a:lnTo>
                  <a:pt x="368" y="1629"/>
                </a:lnTo>
                <a:lnTo>
                  <a:pt x="162" y="1478"/>
                </a:lnTo>
                <a:lnTo>
                  <a:pt x="364" y="1327"/>
                </a:lnTo>
                <a:lnTo>
                  <a:pt x="459" y="1176"/>
                </a:lnTo>
                <a:lnTo>
                  <a:pt x="501" y="1024"/>
                </a:lnTo>
                <a:lnTo>
                  <a:pt x="423" y="873"/>
                </a:lnTo>
                <a:lnTo>
                  <a:pt x="377" y="722"/>
                </a:lnTo>
                <a:lnTo>
                  <a:pt x="418" y="570"/>
                </a:lnTo>
                <a:lnTo>
                  <a:pt x="452" y="419"/>
                </a:lnTo>
                <a:lnTo>
                  <a:pt x="263" y="481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6431040" y="16891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2"/>
          <p:cNvSpPr/>
          <p:nvPr/>
        </p:nvSpPr>
        <p:spPr>
          <a:xfrm>
            <a:off x="7130880" y="1641600"/>
            <a:ext cx="362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7209000" y="1944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6797520" y="169056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5"/>
          <p:cNvSpPr/>
          <p:nvPr/>
        </p:nvSpPr>
        <p:spPr>
          <a:xfrm>
            <a:off x="6431040" y="247176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6"/>
          <p:cNvSpPr/>
          <p:nvPr/>
        </p:nvSpPr>
        <p:spPr>
          <a:xfrm>
            <a:off x="7130880" y="2424240"/>
            <a:ext cx="362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Line 27"/>
          <p:cNvSpPr/>
          <p:nvPr/>
        </p:nvSpPr>
        <p:spPr>
          <a:xfrm>
            <a:off x="7209000" y="272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6797520" y="24732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29"/>
          <p:cNvSpPr/>
          <p:nvPr/>
        </p:nvSpPr>
        <p:spPr>
          <a:xfrm>
            <a:off x="6432480" y="306396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0"/>
          <p:cNvSpPr/>
          <p:nvPr/>
        </p:nvSpPr>
        <p:spPr>
          <a:xfrm>
            <a:off x="6799320" y="306540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1"/>
          <p:cNvSpPr/>
          <p:nvPr/>
        </p:nvSpPr>
        <p:spPr>
          <a:xfrm>
            <a:off x="7162920" y="3067200"/>
            <a:ext cx="495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822240" y="39448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1541520" y="3897360"/>
            <a:ext cx="484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34"/>
          <p:cNvSpPr/>
          <p:nvPr/>
        </p:nvSpPr>
        <p:spPr>
          <a:xfrm>
            <a:off x="1600200" y="420048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1189080" y="39466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6"/>
          <p:cNvSpPr/>
          <p:nvPr/>
        </p:nvSpPr>
        <p:spPr>
          <a:xfrm>
            <a:off x="307800" y="3943440"/>
            <a:ext cx="514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37"/>
          <p:cNvSpPr/>
          <p:nvPr/>
        </p:nvSpPr>
        <p:spPr>
          <a:xfrm flipV="1">
            <a:off x="2665440" y="1642680"/>
            <a:ext cx="0" cy="27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38"/>
          <p:cNvSpPr/>
          <p:nvPr/>
        </p:nvSpPr>
        <p:spPr>
          <a:xfrm>
            <a:off x="3798720" y="180036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4518000" y="1752480"/>
            <a:ext cx="484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Line 40"/>
          <p:cNvSpPr/>
          <p:nvPr/>
        </p:nvSpPr>
        <p:spPr>
          <a:xfrm>
            <a:off x="4576680" y="205596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4165560" y="18018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42"/>
          <p:cNvSpPr/>
          <p:nvPr/>
        </p:nvSpPr>
        <p:spPr>
          <a:xfrm>
            <a:off x="2919240" y="1798560"/>
            <a:ext cx="879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43"/>
          <p:cNvSpPr/>
          <p:nvPr/>
        </p:nvSpPr>
        <p:spPr>
          <a:xfrm>
            <a:off x="3798720" y="245124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44"/>
          <p:cNvSpPr/>
          <p:nvPr/>
        </p:nvSpPr>
        <p:spPr>
          <a:xfrm>
            <a:off x="4518000" y="2403360"/>
            <a:ext cx="555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45"/>
          <p:cNvSpPr/>
          <p:nvPr/>
        </p:nvSpPr>
        <p:spPr>
          <a:xfrm>
            <a:off x="4576680" y="2706840"/>
            <a:ext cx="453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46"/>
          <p:cNvSpPr/>
          <p:nvPr/>
        </p:nvSpPr>
        <p:spPr>
          <a:xfrm>
            <a:off x="4165560" y="24526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54"/>
          <p:cNvSpPr/>
          <p:nvPr/>
        </p:nvSpPr>
        <p:spPr>
          <a:xfrm>
            <a:off x="3649680" y="310032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55"/>
          <p:cNvSpPr/>
          <p:nvPr/>
        </p:nvSpPr>
        <p:spPr>
          <a:xfrm>
            <a:off x="4172040" y="31021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56"/>
          <p:cNvSpPr/>
          <p:nvPr/>
        </p:nvSpPr>
        <p:spPr>
          <a:xfrm>
            <a:off x="4002120" y="3097080"/>
            <a:ext cx="16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57"/>
          <p:cNvSpPr/>
          <p:nvPr/>
        </p:nvSpPr>
        <p:spPr>
          <a:xfrm>
            <a:off x="4537080" y="310500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4178160" y="376560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4008600" y="3760920"/>
            <a:ext cx="163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4543560" y="376884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Line 62"/>
          <p:cNvSpPr/>
          <p:nvPr/>
        </p:nvSpPr>
        <p:spPr>
          <a:xfrm>
            <a:off x="4538520" y="400536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63"/>
          <p:cNvSpPr/>
          <p:nvPr/>
        </p:nvSpPr>
        <p:spPr>
          <a:xfrm>
            <a:off x="4910040" y="376884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64"/>
          <p:cNvSpPr/>
          <p:nvPr/>
        </p:nvSpPr>
        <p:spPr>
          <a:xfrm>
            <a:off x="5275440" y="37720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5283360" y="4021200"/>
            <a:ext cx="358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21:26:34Z</dcterms:created>
  <dc:creator>tom</dc:creator>
  <dc:description/>
  <dc:language>en-US</dc:language>
  <cp:lastModifiedBy>HolyCross</cp:lastModifiedBy>
  <dcterms:modified xsi:type="dcterms:W3CDTF">2013-05-22T09:33:28Z</dcterms:modified>
  <cp:revision>1</cp:revision>
  <dc:subject/>
  <dc:title>Slide 1</dc:title>
</cp:coreProperties>
</file>