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BB2-4A38-4573-B927-549F33770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A63B-5F6D-404C-B693-DFA09E0D8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915-8850-4F37-8737-12A7511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3AE-5A3B-432B-8B1E-0DD775C6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C5C-ABD8-4DAD-9441-2B5B970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6DC-EB96-4C9A-A3B5-6068CB2B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BA6-F98D-4781-8CDD-DF0FE458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371-B95F-4628-A384-6241079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127-1668-4814-8780-01AE946C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FE0-F1A2-42F3-8943-A58A093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527-C0F8-414B-92A3-AFCE57CB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388-9A89-4395-8D60-BB99539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CF2-BE14-4BFF-A9F9-F91554BB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92A-BD95-4485-84A1-0AE0AC7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267A-8603-49EE-BA20-E1E0B275D3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12920" y="927000"/>
            <a:ext cx="8162640" cy="1978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1120" y="3436920"/>
            <a:ext cx="8163000" cy="237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60440" y="1179360"/>
            <a:ext cx="8366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Directly proportional quant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y increase or decrease at the sam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More form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w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variables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1" i="1" lang="en-GB" sz="2800" spc="-1" strike="noStrike">
                <a:solidFill>
                  <a:srgbClr val="0000cc"/>
                </a:solidFill>
                <a:latin typeface="Tahoma"/>
              </a:rPr>
              <a:t>directly proportional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1" i="1" lang="en-GB" sz="2800" spc="-1" strike="noStrike">
                <a:solidFill>
                  <a:srgbClr val="0000cc"/>
                </a:solidFill>
                <a:latin typeface="Tahoma"/>
              </a:rPr>
              <a:t>ratio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between them remains </a:t>
            </a:r>
            <a:r>
              <a:rPr b="1" i="1" lang="en-GB" sz="2800" spc="-1" strike="noStrike">
                <a:solidFill>
                  <a:srgbClr val="0000cc"/>
                </a:solidFill>
                <a:latin typeface="Tahoma"/>
              </a:rPr>
              <a:t>constant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49400" y="133200"/>
            <a:ext cx="8847000" cy="213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n a chemistry experiment, the reaction tim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directly proportional to the mas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of the compound pres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the mass is 3 grams the reaction time is 0.2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at is the reaction time when the mass is 8 gra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87948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7"/>
          <p:cNvSpPr/>
          <p:nvPr/>
        </p:nvSpPr>
        <p:spPr>
          <a:xfrm>
            <a:off x="1390680" y="277164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44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1752480" y="3629160"/>
            <a:ext cx="152640" cy="777600"/>
          </a:xfrm>
          <a:prstGeom prst="upArrow">
            <a:avLst>
              <a:gd name="adj1" fmla="val 50000"/>
              <a:gd name="adj2" fmla="val 127358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198800" y="437184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887400" y="3075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25244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61604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186840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 rot="16200000">
            <a:off x="2539800" y="2964960"/>
            <a:ext cx="343080" cy="777960"/>
          </a:xfrm>
          <a:prstGeom prst="upArrow">
            <a:avLst>
              <a:gd name="adj1" fmla="val 50000"/>
              <a:gd name="adj2" fmla="val 56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3160800" y="3165480"/>
            <a:ext cx="40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will be the formula when we find the value of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9400" y="133200"/>
            <a:ext cx="8847000" cy="213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n a chemistry experiment, the reaction tim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directly proportional to the mas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of the compound pres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the mass is 3 grams the reaction time is 0.2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at is the reaction time when the mass is 8 gra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7948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5"/>
          <p:cNvSpPr/>
          <p:nvPr/>
        </p:nvSpPr>
        <p:spPr>
          <a:xfrm>
            <a:off x="1390680" y="277164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79244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887400" y="3075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25244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61604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1868400" y="3075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5"/>
          <p:cNvSpPr/>
          <p:nvPr/>
        </p:nvSpPr>
        <p:spPr>
          <a:xfrm>
            <a:off x="4807080" y="2332080"/>
            <a:ext cx="4221000" cy="2381040"/>
          </a:xfrm>
          <a:custGeom>
            <a:avLst/>
            <a:gdLst>
              <a:gd name="textAreaLeft" fmla="*/ 0 w 4221000"/>
              <a:gd name="textAreaRight" fmla="*/ 4221360 w 422100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5137200" y="24447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502240" y="24447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5865840" y="24447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6045120" y="2444760"/>
            <a:ext cx="519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986360" y="2919240"/>
            <a:ext cx="50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5499000" y="29192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862600" y="29192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6130800" y="2919240"/>
            <a:ext cx="63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038560" y="3384720"/>
            <a:ext cx="459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5500800" y="33847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5864400" y="3384720"/>
            <a:ext cx="475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164200" y="3902040"/>
            <a:ext cx="33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5502240" y="39020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5865840" y="3933720"/>
            <a:ext cx="47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>
            <a:off x="5897520" y="4175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1"/>
          <p:cNvSpPr/>
          <p:nvPr/>
        </p:nvSpPr>
        <p:spPr>
          <a:xfrm>
            <a:off x="6340320" y="39052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6703920" y="3921120"/>
            <a:ext cx="30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3"/>
          <p:cNvSpPr/>
          <p:nvPr/>
        </p:nvSpPr>
        <p:spPr>
          <a:xfrm>
            <a:off x="6692760" y="4162320"/>
            <a:ext cx="349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7658280" y="39006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8021520" y="3900600"/>
            <a:ext cx="747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6"/>
          <p:cNvSpPr/>
          <p:nvPr/>
        </p:nvSpPr>
        <p:spPr>
          <a:xfrm>
            <a:off x="7023240" y="39067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7"/>
          <p:cNvSpPr/>
          <p:nvPr/>
        </p:nvSpPr>
        <p:spPr>
          <a:xfrm>
            <a:off x="7386480" y="3922560"/>
            <a:ext cx="30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8"/>
          <p:cNvSpPr/>
          <p:nvPr/>
        </p:nvSpPr>
        <p:spPr>
          <a:xfrm>
            <a:off x="7375680" y="4164120"/>
            <a:ext cx="349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890640" y="359100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"/>
          <p:cNvSpPr/>
          <p:nvPr/>
        </p:nvSpPr>
        <p:spPr>
          <a:xfrm>
            <a:off x="1255680" y="35910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1909800" y="3591000"/>
            <a:ext cx="401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1616040" y="3594240"/>
            <a:ext cx="308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3"/>
          <p:cNvSpPr/>
          <p:nvPr/>
        </p:nvSpPr>
        <p:spPr>
          <a:xfrm>
            <a:off x="1609560" y="3835440"/>
            <a:ext cx="3495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888840" y="4157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1254240" y="4157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1614600" y="4160880"/>
            <a:ext cx="390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7"/>
          <p:cNvSpPr/>
          <p:nvPr/>
        </p:nvSpPr>
        <p:spPr>
          <a:xfrm>
            <a:off x="1646280" y="4402080"/>
            <a:ext cx="352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892080" y="47084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1257480" y="47084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623960" y="4708440"/>
            <a:ext cx="123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067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1"/>
          <p:cNvSpPr/>
          <p:nvPr/>
        </p:nvSpPr>
        <p:spPr>
          <a:xfrm>
            <a:off x="374760" y="3586320"/>
            <a:ext cx="515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2"/>
          <p:cNvSpPr/>
          <p:nvPr/>
        </p:nvSpPr>
        <p:spPr>
          <a:xfrm>
            <a:off x="368280" y="4156200"/>
            <a:ext cx="515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3"/>
          <p:cNvSpPr/>
          <p:nvPr/>
        </p:nvSpPr>
        <p:spPr>
          <a:xfrm>
            <a:off x="369720" y="4705200"/>
            <a:ext cx="51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57"/>
          <p:cNvSpPr/>
          <p:nvPr/>
        </p:nvSpPr>
        <p:spPr>
          <a:xfrm>
            <a:off x="417600" y="116676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8"/>
          <p:cNvSpPr/>
          <p:nvPr/>
        </p:nvSpPr>
        <p:spPr>
          <a:xfrm>
            <a:off x="304920" y="528336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9"/>
          <p:cNvSpPr/>
          <p:nvPr/>
        </p:nvSpPr>
        <p:spPr>
          <a:xfrm>
            <a:off x="1160640" y="5445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1525680" y="5445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3"/>
          <p:cNvSpPr/>
          <p:nvPr/>
        </p:nvSpPr>
        <p:spPr>
          <a:xfrm>
            <a:off x="247680" y="544356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4"/>
          <p:cNvSpPr/>
          <p:nvPr/>
        </p:nvSpPr>
        <p:spPr>
          <a:xfrm>
            <a:off x="1162080" y="60325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5"/>
          <p:cNvSpPr/>
          <p:nvPr/>
        </p:nvSpPr>
        <p:spPr>
          <a:xfrm>
            <a:off x="1527120" y="60325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8"/>
          <p:cNvSpPr/>
          <p:nvPr/>
        </p:nvSpPr>
        <p:spPr>
          <a:xfrm>
            <a:off x="3487680" y="60228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9"/>
          <p:cNvSpPr/>
          <p:nvPr/>
        </p:nvSpPr>
        <p:spPr>
          <a:xfrm>
            <a:off x="3851280" y="6021360"/>
            <a:ext cx="95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0.5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0"/>
          <p:cNvSpPr/>
          <p:nvPr/>
        </p:nvSpPr>
        <p:spPr>
          <a:xfrm>
            <a:off x="411120" y="163188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0"/>
          <p:cNvSpPr/>
          <p:nvPr/>
        </p:nvSpPr>
        <p:spPr>
          <a:xfrm>
            <a:off x="1908000" y="5445000"/>
            <a:ext cx="123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067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0"/>
          <p:cNvSpPr/>
          <p:nvPr/>
        </p:nvSpPr>
        <p:spPr>
          <a:xfrm>
            <a:off x="1908000" y="6021360"/>
            <a:ext cx="151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0.067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3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3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5520" y="142920"/>
            <a:ext cx="8828280" cy="157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riables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re directly propor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8,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,  in the form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320840" y="2443320"/>
            <a:ext cx="152280" cy="777600"/>
          </a:xfrm>
          <a:prstGeom prst="upArrow">
            <a:avLst>
              <a:gd name="adj1" fmla="val 50000"/>
              <a:gd name="adj2" fmla="val 12766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769320" y="31860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736560" y="19684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3"/>
          <p:cNvSpPr/>
          <p:nvPr/>
        </p:nvSpPr>
        <p:spPr>
          <a:xfrm>
            <a:off x="1247760" y="215280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164952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9"/>
          <p:cNvSpPr/>
          <p:nvPr/>
        </p:nvSpPr>
        <p:spPr>
          <a:xfrm>
            <a:off x="1587600" y="2895480"/>
            <a:ext cx="152280" cy="777960"/>
          </a:xfrm>
          <a:prstGeom prst="upArrow">
            <a:avLst>
              <a:gd name="adj1" fmla="val 50000"/>
              <a:gd name="adj2" fmla="val 127719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033920" y="363852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736560" y="19684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247760" y="215280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64952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73836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11034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4670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64628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 rot="16200000">
            <a:off x="2374920" y="2311200"/>
            <a:ext cx="342720" cy="777960"/>
          </a:xfrm>
          <a:prstGeom prst="upArrow">
            <a:avLst>
              <a:gd name="adj1" fmla="val 50000"/>
              <a:gd name="adj2" fmla="val 567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2995560" y="2511360"/>
            <a:ext cx="40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will be the formula when we find the value of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155520" y="142920"/>
            <a:ext cx="8828280" cy="157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riables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re directly propor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8,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,  in the form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736560" y="19684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1247760" y="215280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64952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73836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1034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4670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164628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8"/>
          <p:cNvSpPr/>
          <p:nvPr/>
        </p:nvSpPr>
        <p:spPr>
          <a:xfrm>
            <a:off x="5192640" y="1855800"/>
            <a:ext cx="3692520" cy="238140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2381400"/>
              <a:gd name="textAreaBottom" fmla="*/ 2381760 h 238140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575640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12144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648504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6664320" y="19684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5710320" y="2443320"/>
            <a:ext cx="40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61182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"/>
          <p:cNvSpPr/>
          <p:nvPr/>
        </p:nvSpPr>
        <p:spPr>
          <a:xfrm>
            <a:off x="6481800" y="2443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6750000" y="2443320"/>
            <a:ext cx="63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8"/>
          <p:cNvSpPr/>
          <p:nvPr/>
        </p:nvSpPr>
        <p:spPr>
          <a:xfrm>
            <a:off x="5657760" y="2908440"/>
            <a:ext cx="459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6119640" y="290844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6483240" y="2908440"/>
            <a:ext cx="476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5783400" y="3425760"/>
            <a:ext cx="33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121440" y="34257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6485040" y="3451320"/>
            <a:ext cx="476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6516720" y="36925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6959520" y="342900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7323120" y="3454560"/>
            <a:ext cx="308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7354800" y="3695760"/>
            <a:ext cx="27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9"/>
          <p:cNvSpPr/>
          <p:nvPr/>
        </p:nvSpPr>
        <p:spPr>
          <a:xfrm>
            <a:off x="7626240" y="34243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0"/>
          <p:cNvSpPr/>
          <p:nvPr/>
        </p:nvSpPr>
        <p:spPr>
          <a:xfrm>
            <a:off x="7989840" y="3424320"/>
            <a:ext cx="747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731880" y="30193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096920" y="30193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4"/>
          <p:cNvSpPr/>
          <p:nvPr/>
        </p:nvSpPr>
        <p:spPr>
          <a:xfrm>
            <a:off x="1751040" y="3019320"/>
            <a:ext cx="21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5"/>
          <p:cNvSpPr/>
          <p:nvPr/>
        </p:nvSpPr>
        <p:spPr>
          <a:xfrm>
            <a:off x="1457280" y="3022560"/>
            <a:ext cx="30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6"/>
          <p:cNvSpPr/>
          <p:nvPr/>
        </p:nvSpPr>
        <p:spPr>
          <a:xfrm>
            <a:off x="1488960" y="3263760"/>
            <a:ext cx="277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7"/>
          <p:cNvSpPr/>
          <p:nvPr/>
        </p:nvSpPr>
        <p:spPr>
          <a:xfrm>
            <a:off x="730080" y="35863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8"/>
          <p:cNvSpPr/>
          <p:nvPr/>
        </p:nvSpPr>
        <p:spPr>
          <a:xfrm>
            <a:off x="1095480" y="35863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1455840" y="3589200"/>
            <a:ext cx="39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9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1"/>
          <p:cNvSpPr/>
          <p:nvPr/>
        </p:nvSpPr>
        <p:spPr>
          <a:xfrm>
            <a:off x="1487520" y="3830760"/>
            <a:ext cx="352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33320" y="41371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3"/>
          <p:cNvSpPr/>
          <p:nvPr/>
        </p:nvSpPr>
        <p:spPr>
          <a:xfrm>
            <a:off x="1098720" y="41371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4"/>
          <p:cNvSpPr/>
          <p:nvPr/>
        </p:nvSpPr>
        <p:spPr>
          <a:xfrm>
            <a:off x="1465200" y="4137120"/>
            <a:ext cx="979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2.25</a:t>
            </a: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7"/>
          <p:cNvSpPr/>
          <p:nvPr/>
        </p:nvSpPr>
        <p:spPr>
          <a:xfrm>
            <a:off x="216000" y="3014640"/>
            <a:ext cx="51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8"/>
          <p:cNvSpPr/>
          <p:nvPr/>
        </p:nvSpPr>
        <p:spPr>
          <a:xfrm>
            <a:off x="209520" y="3584520"/>
            <a:ext cx="51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9"/>
          <p:cNvSpPr/>
          <p:nvPr/>
        </p:nvSpPr>
        <p:spPr>
          <a:xfrm>
            <a:off x="210960" y="4133880"/>
            <a:ext cx="516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1"/>
          <p:cNvSpPr/>
          <p:nvPr/>
        </p:nvSpPr>
        <p:spPr>
          <a:xfrm>
            <a:off x="155520" y="142920"/>
            <a:ext cx="8828280" cy="157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riables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re directly propor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8,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,  in the form </a:t>
            </a: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v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3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49400" y="133200"/>
            <a:ext cx="8847000" cy="259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distance covered by a car (d) is directly proportional to the time taken (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car covers 91km in 3.5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 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How far does it cover in 2.5 hou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f it travels 110.5km, how long has it been trav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1"/>
          <p:cNvSpPr/>
          <p:nvPr/>
        </p:nvSpPr>
        <p:spPr>
          <a:xfrm>
            <a:off x="1219320" y="3543480"/>
            <a:ext cx="152280" cy="777600"/>
          </a:xfrm>
          <a:prstGeom prst="upArrow">
            <a:avLst>
              <a:gd name="adj1" fmla="val 50000"/>
              <a:gd name="adj2" fmla="val 12766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667440" y="428616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635040" y="3068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4"/>
          <p:cNvSpPr/>
          <p:nvPr/>
        </p:nvSpPr>
        <p:spPr>
          <a:xfrm>
            <a:off x="1146240" y="32529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1547640" y="3068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49400" y="133200"/>
            <a:ext cx="8847000" cy="259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distance covered by a car (d) is directly proportional to the time taken (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car covers 91km in 3.5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 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How far does it cover in 2.5 hou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f it travels 110.5km, how long has it been trav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35040" y="3068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1146240" y="325296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547640" y="3068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1508040" y="4110120"/>
            <a:ext cx="152640" cy="777960"/>
          </a:xfrm>
          <a:prstGeom prst="upArrow">
            <a:avLst>
              <a:gd name="adj1" fmla="val 50000"/>
              <a:gd name="adj2" fmla="val 127417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954360" y="485316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4296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008000" y="35560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37160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1623960" y="35560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 rot="16200000">
            <a:off x="2295360" y="3446280"/>
            <a:ext cx="342720" cy="777960"/>
          </a:xfrm>
          <a:prstGeom prst="upArrow">
            <a:avLst>
              <a:gd name="adj1" fmla="val 50000"/>
              <a:gd name="adj2" fmla="val 567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916360" y="3646440"/>
            <a:ext cx="40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is will be the formula when we find the value of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49400" y="133200"/>
            <a:ext cx="8847000" cy="259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distance covered by a car (d) is directly proportional to the time taken (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car covers 91km in 3.5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 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How far does it cover in 2.5 hou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f it travels 110.5km, how long has it been trav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4360" y="3068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1195560" y="325296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596960" y="3068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9228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05732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142092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67328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4211640" y="3141720"/>
            <a:ext cx="4221000" cy="2381040"/>
          </a:xfrm>
          <a:custGeom>
            <a:avLst/>
            <a:gdLst>
              <a:gd name="textAreaLeft" fmla="*/ 0 w 4221000"/>
              <a:gd name="textAreaRight" fmla="*/ 4221360 w 422100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17281" h="17185">
                <a:moveTo>
                  <a:pt x="263" y="481"/>
                </a:moveTo>
                <a:lnTo>
                  <a:pt x="414" y="313"/>
                </a:lnTo>
                <a:lnTo>
                  <a:pt x="565" y="114"/>
                </a:lnTo>
                <a:lnTo>
                  <a:pt x="716" y="198"/>
                </a:lnTo>
                <a:lnTo>
                  <a:pt x="867" y="458"/>
                </a:lnTo>
                <a:lnTo>
                  <a:pt x="1018" y="400"/>
                </a:lnTo>
                <a:lnTo>
                  <a:pt x="1169" y="527"/>
                </a:lnTo>
                <a:lnTo>
                  <a:pt x="1319" y="139"/>
                </a:lnTo>
                <a:lnTo>
                  <a:pt x="1471" y="429"/>
                </a:lnTo>
                <a:lnTo>
                  <a:pt x="1622" y="280"/>
                </a:lnTo>
                <a:lnTo>
                  <a:pt x="1772" y="236"/>
                </a:lnTo>
                <a:lnTo>
                  <a:pt x="1923" y="322"/>
                </a:lnTo>
                <a:lnTo>
                  <a:pt x="2074" y="174"/>
                </a:lnTo>
                <a:lnTo>
                  <a:pt x="2226" y="80"/>
                </a:lnTo>
                <a:lnTo>
                  <a:pt x="2376" y="187"/>
                </a:lnTo>
                <a:lnTo>
                  <a:pt x="2527" y="136"/>
                </a:lnTo>
                <a:lnTo>
                  <a:pt x="2678" y="524"/>
                </a:lnTo>
                <a:lnTo>
                  <a:pt x="2829" y="81"/>
                </a:lnTo>
                <a:lnTo>
                  <a:pt x="2979" y="100"/>
                </a:lnTo>
                <a:lnTo>
                  <a:pt x="3131" y="52"/>
                </a:lnTo>
                <a:lnTo>
                  <a:pt x="3282" y="339"/>
                </a:lnTo>
                <a:lnTo>
                  <a:pt x="3433" y="418"/>
                </a:lnTo>
                <a:lnTo>
                  <a:pt x="3583" y="0"/>
                </a:lnTo>
                <a:lnTo>
                  <a:pt x="3734" y="76"/>
                </a:lnTo>
                <a:lnTo>
                  <a:pt x="3886" y="187"/>
                </a:lnTo>
                <a:lnTo>
                  <a:pt x="4037" y="81"/>
                </a:lnTo>
                <a:lnTo>
                  <a:pt x="4187" y="31"/>
                </a:lnTo>
                <a:lnTo>
                  <a:pt x="4338" y="92"/>
                </a:lnTo>
                <a:lnTo>
                  <a:pt x="4489" y="272"/>
                </a:lnTo>
                <a:lnTo>
                  <a:pt x="4641" y="234"/>
                </a:lnTo>
                <a:lnTo>
                  <a:pt x="4791" y="254"/>
                </a:lnTo>
                <a:lnTo>
                  <a:pt x="4942" y="267"/>
                </a:lnTo>
                <a:lnTo>
                  <a:pt x="5093" y="371"/>
                </a:lnTo>
                <a:lnTo>
                  <a:pt x="5243" y="429"/>
                </a:lnTo>
                <a:lnTo>
                  <a:pt x="5395" y="249"/>
                </a:lnTo>
                <a:lnTo>
                  <a:pt x="5546" y="441"/>
                </a:lnTo>
                <a:lnTo>
                  <a:pt x="5697" y="123"/>
                </a:lnTo>
                <a:lnTo>
                  <a:pt x="5847" y="233"/>
                </a:lnTo>
                <a:lnTo>
                  <a:pt x="5998" y="207"/>
                </a:lnTo>
                <a:lnTo>
                  <a:pt x="6150" y="404"/>
                </a:lnTo>
                <a:lnTo>
                  <a:pt x="6301" y="419"/>
                </a:lnTo>
                <a:lnTo>
                  <a:pt x="6451" y="243"/>
                </a:lnTo>
                <a:lnTo>
                  <a:pt x="6602" y="111"/>
                </a:lnTo>
                <a:lnTo>
                  <a:pt x="6753" y="0"/>
                </a:lnTo>
                <a:lnTo>
                  <a:pt x="6905" y="459"/>
                </a:lnTo>
                <a:lnTo>
                  <a:pt x="7055" y="478"/>
                </a:lnTo>
                <a:lnTo>
                  <a:pt x="7206" y="315"/>
                </a:lnTo>
                <a:lnTo>
                  <a:pt x="7357" y="422"/>
                </a:lnTo>
                <a:lnTo>
                  <a:pt x="7508" y="387"/>
                </a:lnTo>
                <a:lnTo>
                  <a:pt x="7658" y="348"/>
                </a:lnTo>
                <a:lnTo>
                  <a:pt x="7810" y="102"/>
                </a:lnTo>
                <a:lnTo>
                  <a:pt x="7961" y="264"/>
                </a:lnTo>
                <a:lnTo>
                  <a:pt x="8111" y="305"/>
                </a:lnTo>
                <a:lnTo>
                  <a:pt x="8262" y="335"/>
                </a:lnTo>
                <a:lnTo>
                  <a:pt x="8413" y="231"/>
                </a:lnTo>
                <a:lnTo>
                  <a:pt x="8565" y="52"/>
                </a:lnTo>
                <a:lnTo>
                  <a:pt x="8715" y="187"/>
                </a:lnTo>
                <a:lnTo>
                  <a:pt x="8866" y="440"/>
                </a:lnTo>
                <a:lnTo>
                  <a:pt x="9017" y="134"/>
                </a:lnTo>
                <a:lnTo>
                  <a:pt x="9168" y="219"/>
                </a:lnTo>
                <a:lnTo>
                  <a:pt x="9319" y="102"/>
                </a:lnTo>
                <a:lnTo>
                  <a:pt x="9470" y="378"/>
                </a:lnTo>
                <a:lnTo>
                  <a:pt x="9621" y="83"/>
                </a:lnTo>
                <a:lnTo>
                  <a:pt x="9772" y="341"/>
                </a:lnTo>
                <a:lnTo>
                  <a:pt x="9922" y="432"/>
                </a:lnTo>
                <a:lnTo>
                  <a:pt x="10074" y="343"/>
                </a:lnTo>
                <a:lnTo>
                  <a:pt x="10225" y="55"/>
                </a:lnTo>
                <a:lnTo>
                  <a:pt x="10376" y="175"/>
                </a:lnTo>
                <a:lnTo>
                  <a:pt x="10526" y="419"/>
                </a:lnTo>
                <a:lnTo>
                  <a:pt x="10677" y="320"/>
                </a:lnTo>
                <a:lnTo>
                  <a:pt x="10829" y="225"/>
                </a:lnTo>
                <a:lnTo>
                  <a:pt x="10980" y="122"/>
                </a:lnTo>
                <a:lnTo>
                  <a:pt x="11130" y="100"/>
                </a:lnTo>
                <a:lnTo>
                  <a:pt x="11281" y="2"/>
                </a:lnTo>
                <a:lnTo>
                  <a:pt x="11432" y="235"/>
                </a:lnTo>
                <a:lnTo>
                  <a:pt x="11582" y="20"/>
                </a:lnTo>
                <a:lnTo>
                  <a:pt x="11734" y="200"/>
                </a:lnTo>
                <a:lnTo>
                  <a:pt x="11885" y="517"/>
                </a:lnTo>
                <a:lnTo>
                  <a:pt x="12036" y="505"/>
                </a:lnTo>
                <a:lnTo>
                  <a:pt x="12186" y="354"/>
                </a:lnTo>
                <a:lnTo>
                  <a:pt x="12337" y="200"/>
                </a:lnTo>
                <a:lnTo>
                  <a:pt x="12489" y="339"/>
                </a:lnTo>
                <a:lnTo>
                  <a:pt x="12640" y="70"/>
                </a:lnTo>
                <a:lnTo>
                  <a:pt x="12790" y="498"/>
                </a:lnTo>
                <a:lnTo>
                  <a:pt x="12941" y="455"/>
                </a:lnTo>
                <a:lnTo>
                  <a:pt x="13092" y="32"/>
                </a:lnTo>
                <a:lnTo>
                  <a:pt x="13244" y="137"/>
                </a:lnTo>
                <a:lnTo>
                  <a:pt x="13394" y="192"/>
                </a:lnTo>
                <a:lnTo>
                  <a:pt x="13545" y="500"/>
                </a:lnTo>
                <a:lnTo>
                  <a:pt x="13696" y="142"/>
                </a:lnTo>
                <a:lnTo>
                  <a:pt x="13847" y="295"/>
                </a:lnTo>
                <a:lnTo>
                  <a:pt x="13997" y="524"/>
                </a:lnTo>
                <a:lnTo>
                  <a:pt x="14149" y="491"/>
                </a:lnTo>
                <a:lnTo>
                  <a:pt x="14300" y="420"/>
                </a:lnTo>
                <a:lnTo>
                  <a:pt x="14450" y="339"/>
                </a:lnTo>
                <a:lnTo>
                  <a:pt x="14601" y="379"/>
                </a:lnTo>
                <a:lnTo>
                  <a:pt x="14752" y="93"/>
                </a:lnTo>
                <a:lnTo>
                  <a:pt x="14904" y="294"/>
                </a:lnTo>
                <a:lnTo>
                  <a:pt x="15054" y="22"/>
                </a:lnTo>
                <a:lnTo>
                  <a:pt x="15205" y="213"/>
                </a:lnTo>
                <a:lnTo>
                  <a:pt x="15356" y="120"/>
                </a:lnTo>
                <a:lnTo>
                  <a:pt x="15507" y="170"/>
                </a:lnTo>
                <a:lnTo>
                  <a:pt x="15658" y="36"/>
                </a:lnTo>
                <a:lnTo>
                  <a:pt x="15809" y="535"/>
                </a:lnTo>
                <a:lnTo>
                  <a:pt x="15960" y="181"/>
                </a:lnTo>
                <a:lnTo>
                  <a:pt x="16111" y="254"/>
                </a:lnTo>
                <a:lnTo>
                  <a:pt x="16261" y="266"/>
                </a:lnTo>
                <a:lnTo>
                  <a:pt x="16413" y="476"/>
                </a:lnTo>
                <a:lnTo>
                  <a:pt x="16564" y="328"/>
                </a:lnTo>
                <a:lnTo>
                  <a:pt x="16715" y="231"/>
                </a:lnTo>
                <a:lnTo>
                  <a:pt x="16865" y="247"/>
                </a:lnTo>
                <a:lnTo>
                  <a:pt x="17272" y="268"/>
                </a:lnTo>
                <a:lnTo>
                  <a:pt x="17224" y="419"/>
                </a:lnTo>
                <a:lnTo>
                  <a:pt x="17013" y="570"/>
                </a:lnTo>
                <a:lnTo>
                  <a:pt x="16779" y="722"/>
                </a:lnTo>
                <a:lnTo>
                  <a:pt x="17011" y="873"/>
                </a:lnTo>
                <a:lnTo>
                  <a:pt x="16992" y="1024"/>
                </a:lnTo>
                <a:lnTo>
                  <a:pt x="16952" y="1176"/>
                </a:lnTo>
                <a:lnTo>
                  <a:pt x="17207" y="1327"/>
                </a:lnTo>
                <a:lnTo>
                  <a:pt x="16781" y="1478"/>
                </a:lnTo>
                <a:lnTo>
                  <a:pt x="17245" y="1629"/>
                </a:lnTo>
                <a:lnTo>
                  <a:pt x="16878" y="1781"/>
                </a:lnTo>
                <a:lnTo>
                  <a:pt x="17264" y="1933"/>
                </a:lnTo>
                <a:lnTo>
                  <a:pt x="16815" y="2084"/>
                </a:lnTo>
                <a:lnTo>
                  <a:pt x="16838" y="2236"/>
                </a:lnTo>
                <a:lnTo>
                  <a:pt x="16987" y="2387"/>
                </a:lnTo>
                <a:lnTo>
                  <a:pt x="17200" y="2538"/>
                </a:lnTo>
                <a:lnTo>
                  <a:pt x="16825" y="2689"/>
                </a:lnTo>
                <a:lnTo>
                  <a:pt x="17157" y="2841"/>
                </a:lnTo>
                <a:lnTo>
                  <a:pt x="17220" y="2992"/>
                </a:lnTo>
                <a:lnTo>
                  <a:pt x="17005" y="3143"/>
                </a:lnTo>
                <a:lnTo>
                  <a:pt x="17125" y="3294"/>
                </a:lnTo>
                <a:lnTo>
                  <a:pt x="17183" y="3446"/>
                </a:lnTo>
                <a:lnTo>
                  <a:pt x="16800" y="3597"/>
                </a:lnTo>
                <a:lnTo>
                  <a:pt x="16796" y="3748"/>
                </a:lnTo>
                <a:lnTo>
                  <a:pt x="16760" y="3900"/>
                </a:lnTo>
                <a:lnTo>
                  <a:pt x="17059" y="4052"/>
                </a:lnTo>
                <a:lnTo>
                  <a:pt x="16780" y="4203"/>
                </a:lnTo>
                <a:lnTo>
                  <a:pt x="16757" y="4354"/>
                </a:lnTo>
                <a:lnTo>
                  <a:pt x="17219" y="4506"/>
                </a:lnTo>
                <a:lnTo>
                  <a:pt x="17190" y="4657"/>
                </a:lnTo>
                <a:lnTo>
                  <a:pt x="17160" y="4808"/>
                </a:lnTo>
                <a:lnTo>
                  <a:pt x="17274" y="4960"/>
                </a:lnTo>
                <a:lnTo>
                  <a:pt x="17010" y="5111"/>
                </a:lnTo>
                <a:lnTo>
                  <a:pt x="16875" y="5262"/>
                </a:lnTo>
                <a:lnTo>
                  <a:pt x="17040" y="5413"/>
                </a:lnTo>
                <a:lnTo>
                  <a:pt x="16914" y="5565"/>
                </a:lnTo>
                <a:lnTo>
                  <a:pt x="16977" y="5717"/>
                </a:lnTo>
                <a:lnTo>
                  <a:pt x="17234" y="5868"/>
                </a:lnTo>
                <a:lnTo>
                  <a:pt x="16898" y="6020"/>
                </a:lnTo>
                <a:lnTo>
                  <a:pt x="16947" y="6171"/>
                </a:lnTo>
                <a:lnTo>
                  <a:pt x="16751" y="6322"/>
                </a:lnTo>
                <a:lnTo>
                  <a:pt x="16852" y="6473"/>
                </a:lnTo>
                <a:lnTo>
                  <a:pt x="16965" y="6625"/>
                </a:lnTo>
                <a:lnTo>
                  <a:pt x="17156" y="6776"/>
                </a:lnTo>
                <a:lnTo>
                  <a:pt x="16890" y="6927"/>
                </a:lnTo>
                <a:lnTo>
                  <a:pt x="17273" y="7078"/>
                </a:lnTo>
                <a:lnTo>
                  <a:pt x="17212" y="7230"/>
                </a:lnTo>
                <a:lnTo>
                  <a:pt x="17020" y="7381"/>
                </a:lnTo>
                <a:lnTo>
                  <a:pt x="16761" y="7532"/>
                </a:lnTo>
                <a:lnTo>
                  <a:pt x="17052" y="7685"/>
                </a:lnTo>
                <a:lnTo>
                  <a:pt x="17225" y="7836"/>
                </a:lnTo>
                <a:lnTo>
                  <a:pt x="17225" y="7987"/>
                </a:lnTo>
                <a:lnTo>
                  <a:pt x="16779" y="8138"/>
                </a:lnTo>
                <a:lnTo>
                  <a:pt x="16921" y="8290"/>
                </a:lnTo>
                <a:lnTo>
                  <a:pt x="17195" y="8441"/>
                </a:lnTo>
                <a:lnTo>
                  <a:pt x="16761" y="8592"/>
                </a:lnTo>
                <a:lnTo>
                  <a:pt x="17248" y="8744"/>
                </a:lnTo>
                <a:lnTo>
                  <a:pt x="16904" y="8895"/>
                </a:lnTo>
                <a:lnTo>
                  <a:pt x="17219" y="9046"/>
                </a:lnTo>
                <a:lnTo>
                  <a:pt x="17244" y="9198"/>
                </a:lnTo>
                <a:lnTo>
                  <a:pt x="17012" y="9350"/>
                </a:lnTo>
                <a:lnTo>
                  <a:pt x="17181" y="9501"/>
                </a:lnTo>
                <a:lnTo>
                  <a:pt x="17206" y="9652"/>
                </a:lnTo>
                <a:lnTo>
                  <a:pt x="16804" y="9804"/>
                </a:lnTo>
                <a:lnTo>
                  <a:pt x="17076" y="9955"/>
                </a:lnTo>
                <a:lnTo>
                  <a:pt x="16984" y="10106"/>
                </a:lnTo>
                <a:lnTo>
                  <a:pt x="17281" y="10257"/>
                </a:lnTo>
                <a:lnTo>
                  <a:pt x="17017" y="10409"/>
                </a:lnTo>
                <a:lnTo>
                  <a:pt x="16821" y="10560"/>
                </a:lnTo>
                <a:lnTo>
                  <a:pt x="16879" y="10711"/>
                </a:lnTo>
                <a:lnTo>
                  <a:pt x="17213" y="10862"/>
                </a:lnTo>
                <a:lnTo>
                  <a:pt x="17146" y="11014"/>
                </a:lnTo>
                <a:lnTo>
                  <a:pt x="17090" y="11165"/>
                </a:lnTo>
                <a:lnTo>
                  <a:pt x="17090" y="11317"/>
                </a:lnTo>
                <a:lnTo>
                  <a:pt x="16917" y="11469"/>
                </a:lnTo>
                <a:lnTo>
                  <a:pt x="17022" y="11620"/>
                </a:lnTo>
                <a:lnTo>
                  <a:pt x="17262" y="11771"/>
                </a:lnTo>
                <a:lnTo>
                  <a:pt x="17230" y="11922"/>
                </a:lnTo>
                <a:lnTo>
                  <a:pt x="17083" y="12074"/>
                </a:lnTo>
                <a:lnTo>
                  <a:pt x="16818" y="12225"/>
                </a:lnTo>
                <a:lnTo>
                  <a:pt x="16798" y="12376"/>
                </a:lnTo>
                <a:lnTo>
                  <a:pt x="17078" y="12528"/>
                </a:lnTo>
                <a:lnTo>
                  <a:pt x="17146" y="12679"/>
                </a:lnTo>
                <a:lnTo>
                  <a:pt x="16762" y="12830"/>
                </a:lnTo>
                <a:lnTo>
                  <a:pt x="16989" y="12981"/>
                </a:lnTo>
                <a:lnTo>
                  <a:pt x="16787" y="13133"/>
                </a:lnTo>
                <a:lnTo>
                  <a:pt x="17197" y="13285"/>
                </a:lnTo>
                <a:lnTo>
                  <a:pt x="16854" y="13436"/>
                </a:lnTo>
                <a:lnTo>
                  <a:pt x="16749" y="13588"/>
                </a:lnTo>
                <a:lnTo>
                  <a:pt x="17223" y="13739"/>
                </a:lnTo>
                <a:lnTo>
                  <a:pt x="17251" y="13890"/>
                </a:lnTo>
                <a:lnTo>
                  <a:pt x="16971" y="14041"/>
                </a:lnTo>
                <a:lnTo>
                  <a:pt x="16952" y="14193"/>
                </a:lnTo>
                <a:lnTo>
                  <a:pt x="17218" y="14344"/>
                </a:lnTo>
                <a:lnTo>
                  <a:pt x="17269" y="14495"/>
                </a:lnTo>
                <a:lnTo>
                  <a:pt x="16875" y="14646"/>
                </a:lnTo>
                <a:lnTo>
                  <a:pt x="16970" y="14798"/>
                </a:lnTo>
                <a:lnTo>
                  <a:pt x="17037" y="14950"/>
                </a:lnTo>
                <a:lnTo>
                  <a:pt x="17260" y="15101"/>
                </a:lnTo>
                <a:lnTo>
                  <a:pt x="17034" y="15253"/>
                </a:lnTo>
                <a:lnTo>
                  <a:pt x="16842" y="15404"/>
                </a:lnTo>
                <a:lnTo>
                  <a:pt x="16777" y="15555"/>
                </a:lnTo>
                <a:lnTo>
                  <a:pt x="17099" y="15706"/>
                </a:lnTo>
                <a:lnTo>
                  <a:pt x="17113" y="15858"/>
                </a:lnTo>
                <a:lnTo>
                  <a:pt x="16785" y="16009"/>
                </a:lnTo>
                <a:lnTo>
                  <a:pt x="16846" y="16160"/>
                </a:lnTo>
                <a:lnTo>
                  <a:pt x="16987" y="16312"/>
                </a:lnTo>
                <a:lnTo>
                  <a:pt x="16777" y="16463"/>
                </a:lnTo>
                <a:lnTo>
                  <a:pt x="17246" y="16615"/>
                </a:lnTo>
                <a:lnTo>
                  <a:pt x="16755" y="16765"/>
                </a:lnTo>
                <a:lnTo>
                  <a:pt x="17016" y="17030"/>
                </a:lnTo>
                <a:lnTo>
                  <a:pt x="16865" y="17185"/>
                </a:lnTo>
                <a:lnTo>
                  <a:pt x="16715" y="17048"/>
                </a:lnTo>
                <a:lnTo>
                  <a:pt x="16564" y="17170"/>
                </a:lnTo>
                <a:lnTo>
                  <a:pt x="16413" y="16921"/>
                </a:lnTo>
                <a:lnTo>
                  <a:pt x="16261" y="17148"/>
                </a:lnTo>
                <a:lnTo>
                  <a:pt x="16111" y="16652"/>
                </a:lnTo>
                <a:lnTo>
                  <a:pt x="15960" y="17137"/>
                </a:lnTo>
                <a:lnTo>
                  <a:pt x="15809" y="17090"/>
                </a:lnTo>
                <a:lnTo>
                  <a:pt x="15658" y="17032"/>
                </a:lnTo>
                <a:lnTo>
                  <a:pt x="15507" y="16740"/>
                </a:lnTo>
                <a:lnTo>
                  <a:pt x="15356" y="17081"/>
                </a:lnTo>
                <a:lnTo>
                  <a:pt x="15205" y="16737"/>
                </a:lnTo>
                <a:lnTo>
                  <a:pt x="15054" y="17175"/>
                </a:lnTo>
                <a:lnTo>
                  <a:pt x="14904" y="16830"/>
                </a:lnTo>
                <a:lnTo>
                  <a:pt x="14752" y="17123"/>
                </a:lnTo>
                <a:lnTo>
                  <a:pt x="14601" y="17085"/>
                </a:lnTo>
                <a:lnTo>
                  <a:pt x="14450" y="16942"/>
                </a:lnTo>
                <a:lnTo>
                  <a:pt x="14300" y="16980"/>
                </a:lnTo>
                <a:lnTo>
                  <a:pt x="14149" y="16977"/>
                </a:lnTo>
                <a:lnTo>
                  <a:pt x="13997" y="16894"/>
                </a:lnTo>
                <a:lnTo>
                  <a:pt x="13847" y="16960"/>
                </a:lnTo>
                <a:lnTo>
                  <a:pt x="13696" y="16789"/>
                </a:lnTo>
                <a:lnTo>
                  <a:pt x="13545" y="16888"/>
                </a:lnTo>
                <a:lnTo>
                  <a:pt x="13394" y="16948"/>
                </a:lnTo>
                <a:lnTo>
                  <a:pt x="13244" y="17016"/>
                </a:lnTo>
                <a:lnTo>
                  <a:pt x="13092" y="16682"/>
                </a:lnTo>
                <a:lnTo>
                  <a:pt x="12941" y="17069"/>
                </a:lnTo>
                <a:lnTo>
                  <a:pt x="12790" y="16738"/>
                </a:lnTo>
                <a:lnTo>
                  <a:pt x="12640" y="16926"/>
                </a:lnTo>
                <a:lnTo>
                  <a:pt x="12489" y="16674"/>
                </a:lnTo>
                <a:lnTo>
                  <a:pt x="12337" y="17159"/>
                </a:lnTo>
                <a:lnTo>
                  <a:pt x="12186" y="16928"/>
                </a:lnTo>
                <a:lnTo>
                  <a:pt x="12036" y="16744"/>
                </a:lnTo>
                <a:lnTo>
                  <a:pt x="11885" y="16666"/>
                </a:lnTo>
                <a:lnTo>
                  <a:pt x="11734" y="17037"/>
                </a:lnTo>
                <a:lnTo>
                  <a:pt x="11582" y="16737"/>
                </a:lnTo>
                <a:lnTo>
                  <a:pt x="11432" y="17145"/>
                </a:lnTo>
                <a:lnTo>
                  <a:pt x="11281" y="16661"/>
                </a:lnTo>
                <a:lnTo>
                  <a:pt x="11130" y="16759"/>
                </a:lnTo>
                <a:lnTo>
                  <a:pt x="10980" y="17139"/>
                </a:lnTo>
                <a:lnTo>
                  <a:pt x="10829" y="16895"/>
                </a:lnTo>
                <a:lnTo>
                  <a:pt x="10677" y="16665"/>
                </a:lnTo>
                <a:lnTo>
                  <a:pt x="10526" y="16930"/>
                </a:lnTo>
                <a:lnTo>
                  <a:pt x="10376" y="16857"/>
                </a:lnTo>
                <a:lnTo>
                  <a:pt x="10225" y="16852"/>
                </a:lnTo>
                <a:lnTo>
                  <a:pt x="10074" y="16820"/>
                </a:lnTo>
                <a:lnTo>
                  <a:pt x="9922" y="16767"/>
                </a:lnTo>
                <a:lnTo>
                  <a:pt x="9772" y="16905"/>
                </a:lnTo>
                <a:lnTo>
                  <a:pt x="9621" y="17180"/>
                </a:lnTo>
                <a:lnTo>
                  <a:pt x="9470" y="16973"/>
                </a:lnTo>
                <a:lnTo>
                  <a:pt x="9319" y="17057"/>
                </a:lnTo>
                <a:lnTo>
                  <a:pt x="9168" y="16879"/>
                </a:lnTo>
                <a:lnTo>
                  <a:pt x="9017" y="16706"/>
                </a:lnTo>
                <a:lnTo>
                  <a:pt x="8866" y="16787"/>
                </a:lnTo>
                <a:lnTo>
                  <a:pt x="8715" y="16682"/>
                </a:lnTo>
                <a:lnTo>
                  <a:pt x="8565" y="17134"/>
                </a:lnTo>
                <a:lnTo>
                  <a:pt x="8413" y="16662"/>
                </a:lnTo>
                <a:lnTo>
                  <a:pt x="8262" y="16669"/>
                </a:lnTo>
                <a:lnTo>
                  <a:pt x="8111" y="16881"/>
                </a:lnTo>
                <a:lnTo>
                  <a:pt x="7961" y="17058"/>
                </a:lnTo>
                <a:lnTo>
                  <a:pt x="7810" y="16811"/>
                </a:lnTo>
                <a:lnTo>
                  <a:pt x="7658" y="16839"/>
                </a:lnTo>
                <a:lnTo>
                  <a:pt x="7508" y="17106"/>
                </a:lnTo>
                <a:lnTo>
                  <a:pt x="7357" y="17107"/>
                </a:lnTo>
                <a:lnTo>
                  <a:pt x="7206" y="16922"/>
                </a:lnTo>
                <a:lnTo>
                  <a:pt x="7055" y="17007"/>
                </a:lnTo>
                <a:lnTo>
                  <a:pt x="6905" y="17182"/>
                </a:lnTo>
                <a:lnTo>
                  <a:pt x="6753" y="16969"/>
                </a:lnTo>
                <a:lnTo>
                  <a:pt x="6602" y="16973"/>
                </a:lnTo>
                <a:lnTo>
                  <a:pt x="6451" y="17157"/>
                </a:lnTo>
                <a:lnTo>
                  <a:pt x="6301" y="17116"/>
                </a:lnTo>
                <a:lnTo>
                  <a:pt x="6150" y="16990"/>
                </a:lnTo>
                <a:lnTo>
                  <a:pt x="5998" y="16702"/>
                </a:lnTo>
                <a:lnTo>
                  <a:pt x="5847" y="17094"/>
                </a:lnTo>
                <a:lnTo>
                  <a:pt x="5697" y="16942"/>
                </a:lnTo>
                <a:lnTo>
                  <a:pt x="5546" y="16832"/>
                </a:lnTo>
                <a:lnTo>
                  <a:pt x="5395" y="17004"/>
                </a:lnTo>
                <a:lnTo>
                  <a:pt x="5243" y="16884"/>
                </a:lnTo>
                <a:lnTo>
                  <a:pt x="5093" y="17076"/>
                </a:lnTo>
                <a:lnTo>
                  <a:pt x="4942" y="16900"/>
                </a:lnTo>
                <a:lnTo>
                  <a:pt x="4791" y="16813"/>
                </a:lnTo>
                <a:lnTo>
                  <a:pt x="4641" y="16871"/>
                </a:lnTo>
                <a:lnTo>
                  <a:pt x="4489" y="16716"/>
                </a:lnTo>
                <a:lnTo>
                  <a:pt x="4338" y="17028"/>
                </a:lnTo>
                <a:lnTo>
                  <a:pt x="4187" y="17105"/>
                </a:lnTo>
                <a:lnTo>
                  <a:pt x="4037" y="16753"/>
                </a:lnTo>
                <a:lnTo>
                  <a:pt x="3886" y="16688"/>
                </a:lnTo>
                <a:lnTo>
                  <a:pt x="3734" y="16875"/>
                </a:lnTo>
                <a:lnTo>
                  <a:pt x="3583" y="17059"/>
                </a:lnTo>
                <a:lnTo>
                  <a:pt x="3433" y="16686"/>
                </a:lnTo>
                <a:lnTo>
                  <a:pt x="3282" y="16728"/>
                </a:lnTo>
                <a:lnTo>
                  <a:pt x="3131" y="16874"/>
                </a:lnTo>
                <a:lnTo>
                  <a:pt x="2979" y="16702"/>
                </a:lnTo>
                <a:lnTo>
                  <a:pt x="2829" y="16670"/>
                </a:lnTo>
                <a:lnTo>
                  <a:pt x="2678" y="16864"/>
                </a:lnTo>
                <a:lnTo>
                  <a:pt x="2527" y="17143"/>
                </a:lnTo>
                <a:lnTo>
                  <a:pt x="2376" y="16985"/>
                </a:lnTo>
                <a:lnTo>
                  <a:pt x="2226" y="16655"/>
                </a:lnTo>
                <a:lnTo>
                  <a:pt x="2074" y="17152"/>
                </a:lnTo>
                <a:lnTo>
                  <a:pt x="1923" y="16967"/>
                </a:lnTo>
                <a:lnTo>
                  <a:pt x="1772" y="17108"/>
                </a:lnTo>
                <a:lnTo>
                  <a:pt x="1622" y="16852"/>
                </a:lnTo>
                <a:lnTo>
                  <a:pt x="1471" y="16832"/>
                </a:lnTo>
                <a:lnTo>
                  <a:pt x="1319" y="17143"/>
                </a:lnTo>
                <a:lnTo>
                  <a:pt x="1169" y="16695"/>
                </a:lnTo>
                <a:lnTo>
                  <a:pt x="1018" y="16900"/>
                </a:lnTo>
                <a:lnTo>
                  <a:pt x="867" y="16868"/>
                </a:lnTo>
                <a:lnTo>
                  <a:pt x="716" y="17006"/>
                </a:lnTo>
                <a:lnTo>
                  <a:pt x="565" y="16731"/>
                </a:lnTo>
                <a:lnTo>
                  <a:pt x="414" y="17165"/>
                </a:lnTo>
                <a:lnTo>
                  <a:pt x="501" y="16917"/>
                </a:lnTo>
                <a:lnTo>
                  <a:pt x="156" y="16767"/>
                </a:lnTo>
                <a:lnTo>
                  <a:pt x="524" y="16614"/>
                </a:lnTo>
                <a:lnTo>
                  <a:pt x="135" y="16463"/>
                </a:lnTo>
                <a:lnTo>
                  <a:pt x="60" y="16312"/>
                </a:lnTo>
                <a:lnTo>
                  <a:pt x="517" y="16160"/>
                </a:lnTo>
                <a:lnTo>
                  <a:pt x="82" y="16009"/>
                </a:lnTo>
                <a:lnTo>
                  <a:pt x="396" y="15858"/>
                </a:lnTo>
                <a:lnTo>
                  <a:pt x="433" y="15706"/>
                </a:lnTo>
                <a:lnTo>
                  <a:pt x="398" y="15555"/>
                </a:lnTo>
                <a:lnTo>
                  <a:pt x="134" y="15404"/>
                </a:lnTo>
                <a:lnTo>
                  <a:pt x="51" y="15253"/>
                </a:lnTo>
                <a:lnTo>
                  <a:pt x="2" y="15101"/>
                </a:lnTo>
                <a:lnTo>
                  <a:pt x="406" y="14949"/>
                </a:lnTo>
                <a:lnTo>
                  <a:pt x="61" y="14798"/>
                </a:lnTo>
                <a:lnTo>
                  <a:pt x="292" y="14646"/>
                </a:lnTo>
                <a:lnTo>
                  <a:pt x="97" y="14495"/>
                </a:lnTo>
                <a:lnTo>
                  <a:pt x="354" y="14344"/>
                </a:lnTo>
                <a:lnTo>
                  <a:pt x="28" y="14193"/>
                </a:lnTo>
                <a:lnTo>
                  <a:pt x="482" y="14041"/>
                </a:lnTo>
                <a:lnTo>
                  <a:pt x="137" y="13890"/>
                </a:lnTo>
                <a:lnTo>
                  <a:pt x="78" y="13739"/>
                </a:lnTo>
                <a:lnTo>
                  <a:pt x="81" y="13588"/>
                </a:lnTo>
                <a:lnTo>
                  <a:pt x="487" y="13436"/>
                </a:lnTo>
                <a:lnTo>
                  <a:pt x="215" y="13285"/>
                </a:lnTo>
                <a:lnTo>
                  <a:pt x="471" y="13133"/>
                </a:lnTo>
                <a:lnTo>
                  <a:pt x="185" y="12981"/>
                </a:lnTo>
                <a:lnTo>
                  <a:pt x="257" y="12830"/>
                </a:lnTo>
                <a:lnTo>
                  <a:pt x="167" y="12679"/>
                </a:lnTo>
                <a:lnTo>
                  <a:pt x="44" y="12528"/>
                </a:lnTo>
                <a:lnTo>
                  <a:pt x="283" y="12376"/>
                </a:lnTo>
                <a:lnTo>
                  <a:pt x="364" y="12225"/>
                </a:lnTo>
                <a:lnTo>
                  <a:pt x="2" y="12074"/>
                </a:lnTo>
                <a:lnTo>
                  <a:pt x="273" y="11922"/>
                </a:lnTo>
                <a:lnTo>
                  <a:pt x="309" y="11771"/>
                </a:lnTo>
                <a:lnTo>
                  <a:pt x="32" y="11620"/>
                </a:lnTo>
                <a:lnTo>
                  <a:pt x="414" y="11469"/>
                </a:lnTo>
                <a:lnTo>
                  <a:pt x="506" y="11316"/>
                </a:lnTo>
                <a:lnTo>
                  <a:pt x="335" y="11165"/>
                </a:lnTo>
                <a:lnTo>
                  <a:pt x="118" y="11014"/>
                </a:lnTo>
                <a:lnTo>
                  <a:pt x="192" y="10862"/>
                </a:lnTo>
                <a:lnTo>
                  <a:pt x="31" y="10711"/>
                </a:lnTo>
                <a:lnTo>
                  <a:pt x="223" y="10560"/>
                </a:lnTo>
                <a:lnTo>
                  <a:pt x="48" y="10409"/>
                </a:lnTo>
                <a:lnTo>
                  <a:pt x="517" y="10257"/>
                </a:lnTo>
                <a:lnTo>
                  <a:pt x="422" y="10106"/>
                </a:lnTo>
                <a:lnTo>
                  <a:pt x="59" y="9955"/>
                </a:lnTo>
                <a:lnTo>
                  <a:pt x="492" y="9804"/>
                </a:lnTo>
                <a:lnTo>
                  <a:pt x="90" y="9652"/>
                </a:lnTo>
                <a:lnTo>
                  <a:pt x="475" y="9501"/>
                </a:lnTo>
                <a:lnTo>
                  <a:pt x="191" y="9350"/>
                </a:lnTo>
                <a:lnTo>
                  <a:pt x="218" y="9197"/>
                </a:lnTo>
                <a:lnTo>
                  <a:pt x="205" y="9046"/>
                </a:lnTo>
                <a:lnTo>
                  <a:pt x="16" y="8895"/>
                </a:lnTo>
                <a:lnTo>
                  <a:pt x="531" y="8744"/>
                </a:lnTo>
                <a:lnTo>
                  <a:pt x="10" y="8592"/>
                </a:lnTo>
                <a:lnTo>
                  <a:pt x="470" y="8441"/>
                </a:lnTo>
                <a:lnTo>
                  <a:pt x="17" y="8290"/>
                </a:lnTo>
                <a:lnTo>
                  <a:pt x="106" y="8138"/>
                </a:lnTo>
                <a:lnTo>
                  <a:pt x="436" y="7987"/>
                </a:lnTo>
                <a:lnTo>
                  <a:pt x="17" y="7836"/>
                </a:lnTo>
                <a:lnTo>
                  <a:pt x="252" y="7685"/>
                </a:lnTo>
                <a:lnTo>
                  <a:pt x="273" y="7533"/>
                </a:lnTo>
                <a:lnTo>
                  <a:pt x="493" y="7381"/>
                </a:lnTo>
                <a:lnTo>
                  <a:pt x="485" y="7230"/>
                </a:lnTo>
                <a:lnTo>
                  <a:pt x="240" y="7078"/>
                </a:lnTo>
                <a:lnTo>
                  <a:pt x="216" y="6927"/>
                </a:lnTo>
                <a:lnTo>
                  <a:pt x="0" y="6776"/>
                </a:lnTo>
                <a:lnTo>
                  <a:pt x="331" y="6625"/>
                </a:lnTo>
                <a:lnTo>
                  <a:pt x="359" y="6473"/>
                </a:lnTo>
                <a:lnTo>
                  <a:pt x="517" y="6322"/>
                </a:lnTo>
                <a:lnTo>
                  <a:pt x="403" y="6171"/>
                </a:lnTo>
                <a:lnTo>
                  <a:pt x="433" y="6020"/>
                </a:lnTo>
                <a:lnTo>
                  <a:pt x="309" y="5868"/>
                </a:lnTo>
                <a:lnTo>
                  <a:pt x="173" y="5717"/>
                </a:lnTo>
                <a:lnTo>
                  <a:pt x="462" y="5565"/>
                </a:lnTo>
                <a:lnTo>
                  <a:pt x="323" y="5413"/>
                </a:lnTo>
                <a:lnTo>
                  <a:pt x="403" y="5262"/>
                </a:lnTo>
                <a:lnTo>
                  <a:pt x="187" y="5111"/>
                </a:lnTo>
                <a:lnTo>
                  <a:pt x="216" y="4960"/>
                </a:lnTo>
                <a:lnTo>
                  <a:pt x="150" y="4808"/>
                </a:lnTo>
                <a:lnTo>
                  <a:pt x="172" y="4657"/>
                </a:lnTo>
                <a:lnTo>
                  <a:pt x="163" y="4506"/>
                </a:lnTo>
                <a:lnTo>
                  <a:pt x="92" y="4354"/>
                </a:lnTo>
                <a:lnTo>
                  <a:pt x="101" y="4203"/>
                </a:lnTo>
                <a:lnTo>
                  <a:pt x="295" y="4052"/>
                </a:lnTo>
                <a:lnTo>
                  <a:pt x="496" y="3900"/>
                </a:lnTo>
                <a:lnTo>
                  <a:pt x="466" y="3748"/>
                </a:lnTo>
                <a:lnTo>
                  <a:pt x="19" y="3598"/>
                </a:lnTo>
                <a:lnTo>
                  <a:pt x="205" y="3446"/>
                </a:lnTo>
                <a:lnTo>
                  <a:pt x="363" y="3294"/>
                </a:lnTo>
                <a:lnTo>
                  <a:pt x="351" y="3143"/>
                </a:lnTo>
                <a:lnTo>
                  <a:pt x="63" y="2992"/>
                </a:lnTo>
                <a:lnTo>
                  <a:pt x="67" y="2841"/>
                </a:lnTo>
                <a:lnTo>
                  <a:pt x="328" y="2689"/>
                </a:lnTo>
                <a:lnTo>
                  <a:pt x="6" y="2538"/>
                </a:lnTo>
                <a:lnTo>
                  <a:pt x="315" y="2387"/>
                </a:lnTo>
                <a:lnTo>
                  <a:pt x="526" y="2236"/>
                </a:lnTo>
                <a:lnTo>
                  <a:pt x="320" y="2084"/>
                </a:lnTo>
                <a:lnTo>
                  <a:pt x="216" y="1933"/>
                </a:lnTo>
                <a:lnTo>
                  <a:pt x="203" y="1781"/>
                </a:lnTo>
                <a:lnTo>
                  <a:pt x="368" y="1629"/>
                </a:lnTo>
                <a:lnTo>
                  <a:pt x="162" y="1478"/>
                </a:lnTo>
                <a:lnTo>
                  <a:pt x="364" y="1327"/>
                </a:lnTo>
                <a:lnTo>
                  <a:pt x="459" y="1176"/>
                </a:lnTo>
                <a:lnTo>
                  <a:pt x="501" y="1024"/>
                </a:lnTo>
                <a:lnTo>
                  <a:pt x="423" y="873"/>
                </a:lnTo>
                <a:lnTo>
                  <a:pt x="377" y="722"/>
                </a:lnTo>
                <a:lnTo>
                  <a:pt x="418" y="570"/>
                </a:lnTo>
                <a:lnTo>
                  <a:pt x="452" y="419"/>
                </a:lnTo>
                <a:lnTo>
                  <a:pt x="263" y="481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541760" y="32544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906800" y="32544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5270400" y="325440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5450040" y="3254400"/>
            <a:ext cx="5191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4390920" y="3728880"/>
            <a:ext cx="50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4903920" y="372888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5267160" y="37288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5535720" y="3728880"/>
            <a:ext cx="907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4443480" y="4194000"/>
            <a:ext cx="45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4905360" y="4194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6"/>
          <p:cNvSpPr/>
          <p:nvPr/>
        </p:nvSpPr>
        <p:spPr>
          <a:xfrm>
            <a:off x="5268960" y="4194000"/>
            <a:ext cx="671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5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4568760" y="4711680"/>
            <a:ext cx="33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4906800" y="471168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5270400" y="4743360"/>
            <a:ext cx="47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0"/>
          <p:cNvSpPr/>
          <p:nvPr/>
        </p:nvSpPr>
        <p:spPr>
          <a:xfrm>
            <a:off x="5302080" y="49849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5745240" y="471492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6012000" y="4724280"/>
            <a:ext cx="74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888840" y="4076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0"/>
          <p:cNvSpPr/>
          <p:nvPr/>
        </p:nvSpPr>
        <p:spPr>
          <a:xfrm>
            <a:off x="1254240" y="4076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1619280" y="4076640"/>
            <a:ext cx="69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26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372960" y="4071960"/>
            <a:ext cx="515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7"/>
          <p:cNvSpPr/>
          <p:nvPr/>
        </p:nvSpPr>
        <p:spPr>
          <a:xfrm>
            <a:off x="179280" y="119700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8"/>
          <p:cNvSpPr/>
          <p:nvPr/>
        </p:nvSpPr>
        <p:spPr>
          <a:xfrm>
            <a:off x="324000" y="479736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179360" y="49593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1544760" y="49593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3"/>
          <p:cNvSpPr/>
          <p:nvPr/>
        </p:nvSpPr>
        <p:spPr>
          <a:xfrm>
            <a:off x="266760" y="495792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4"/>
          <p:cNvSpPr/>
          <p:nvPr/>
        </p:nvSpPr>
        <p:spPr>
          <a:xfrm>
            <a:off x="1181160" y="55468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5"/>
          <p:cNvSpPr/>
          <p:nvPr/>
        </p:nvSpPr>
        <p:spPr>
          <a:xfrm>
            <a:off x="1546200" y="55468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1835280" y="6021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9"/>
          <p:cNvSpPr/>
          <p:nvPr/>
        </p:nvSpPr>
        <p:spPr>
          <a:xfrm>
            <a:off x="1979640" y="6021360"/>
            <a:ext cx="95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0"/>
          <p:cNvSpPr/>
          <p:nvPr/>
        </p:nvSpPr>
        <p:spPr>
          <a:xfrm>
            <a:off x="1927080" y="4959360"/>
            <a:ext cx="700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0"/>
          <p:cNvSpPr/>
          <p:nvPr/>
        </p:nvSpPr>
        <p:spPr>
          <a:xfrm>
            <a:off x="1927080" y="5535720"/>
            <a:ext cx="1276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7"/>
          <p:cNvSpPr/>
          <p:nvPr/>
        </p:nvSpPr>
        <p:spPr>
          <a:xfrm>
            <a:off x="179280" y="1700280"/>
            <a:ext cx="712800" cy="59508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1332000" y="602136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49400" y="133200"/>
            <a:ext cx="8847000" cy="259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distance covered by a car (d) is directly proportional to the time taken (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he car covers 91km in 3.5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 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How far does it cover in 2.5 hou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f it travels 110.5km, how long has it been trav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3068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"/>
          <p:cNvSpPr/>
          <p:nvPr/>
        </p:nvSpPr>
        <p:spPr>
          <a:xfrm>
            <a:off x="1195560" y="3252960"/>
            <a:ext cx="282240" cy="193680"/>
          </a:xfrm>
          <a:custGeom>
            <a:avLst/>
            <a:gdLst>
              <a:gd name="textAreaLeft" fmla="*/ 0 w 282240"/>
              <a:gd name="textAreaRight" fmla="*/ 282600 w 282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596960" y="3068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9228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05732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42092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673280" y="35560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9"/>
          <p:cNvSpPr/>
          <p:nvPr/>
        </p:nvSpPr>
        <p:spPr>
          <a:xfrm>
            <a:off x="888840" y="4076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1254240" y="407664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1619280" y="4076640"/>
            <a:ext cx="69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ahoma"/>
              </a:rPr>
              <a:t>26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1"/>
          <p:cNvSpPr/>
          <p:nvPr/>
        </p:nvSpPr>
        <p:spPr>
          <a:xfrm>
            <a:off x="372960" y="4071960"/>
            <a:ext cx="515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7"/>
          <p:cNvSpPr/>
          <p:nvPr/>
        </p:nvSpPr>
        <p:spPr>
          <a:xfrm>
            <a:off x="179280" y="1197000"/>
            <a:ext cx="712800" cy="59544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8"/>
          <p:cNvSpPr/>
          <p:nvPr/>
        </p:nvSpPr>
        <p:spPr>
          <a:xfrm>
            <a:off x="324000" y="479736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9"/>
          <p:cNvSpPr/>
          <p:nvPr/>
        </p:nvSpPr>
        <p:spPr>
          <a:xfrm>
            <a:off x="1179360" y="495936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0"/>
          <p:cNvSpPr/>
          <p:nvPr/>
        </p:nvSpPr>
        <p:spPr>
          <a:xfrm>
            <a:off x="1544760" y="495936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3"/>
          <p:cNvSpPr/>
          <p:nvPr/>
        </p:nvSpPr>
        <p:spPr>
          <a:xfrm>
            <a:off x="266760" y="4957920"/>
            <a:ext cx="90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4"/>
          <p:cNvSpPr/>
          <p:nvPr/>
        </p:nvSpPr>
        <p:spPr>
          <a:xfrm>
            <a:off x="1181160" y="55468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5"/>
          <p:cNvSpPr/>
          <p:nvPr/>
        </p:nvSpPr>
        <p:spPr>
          <a:xfrm>
            <a:off x="1546200" y="55468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3276720" y="551664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9"/>
          <p:cNvSpPr/>
          <p:nvPr/>
        </p:nvSpPr>
        <p:spPr>
          <a:xfrm>
            <a:off x="3492360" y="5516640"/>
            <a:ext cx="959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927080" y="4959360"/>
            <a:ext cx="700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0"/>
          <p:cNvSpPr/>
          <p:nvPr/>
        </p:nvSpPr>
        <p:spPr>
          <a:xfrm>
            <a:off x="1927080" y="5535720"/>
            <a:ext cx="1276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7"/>
          <p:cNvSpPr/>
          <p:nvPr/>
        </p:nvSpPr>
        <p:spPr>
          <a:xfrm>
            <a:off x="179280" y="1700280"/>
            <a:ext cx="712800" cy="59508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8"/>
          <p:cNvSpPr/>
          <p:nvPr/>
        </p:nvSpPr>
        <p:spPr>
          <a:xfrm>
            <a:off x="4572000" y="321300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9"/>
          <p:cNvSpPr/>
          <p:nvPr/>
        </p:nvSpPr>
        <p:spPr>
          <a:xfrm>
            <a:off x="5427720" y="3375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0"/>
          <p:cNvSpPr/>
          <p:nvPr/>
        </p:nvSpPr>
        <p:spPr>
          <a:xfrm>
            <a:off x="5792760" y="337500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514760" y="3373560"/>
            <a:ext cx="908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4"/>
          <p:cNvSpPr/>
          <p:nvPr/>
        </p:nvSpPr>
        <p:spPr>
          <a:xfrm>
            <a:off x="5003640" y="393372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11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5"/>
          <p:cNvSpPr/>
          <p:nvPr/>
        </p:nvSpPr>
        <p:spPr>
          <a:xfrm>
            <a:off x="5794200" y="396252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0"/>
          <p:cNvSpPr/>
          <p:nvPr/>
        </p:nvSpPr>
        <p:spPr>
          <a:xfrm>
            <a:off x="6175440" y="337500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0"/>
          <p:cNvSpPr/>
          <p:nvPr/>
        </p:nvSpPr>
        <p:spPr>
          <a:xfrm>
            <a:off x="6175440" y="3951360"/>
            <a:ext cx="1276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5"/>
          <p:cNvSpPr/>
          <p:nvPr/>
        </p:nvSpPr>
        <p:spPr>
          <a:xfrm>
            <a:off x="5775480" y="4592520"/>
            <a:ext cx="36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0"/>
          <p:cNvSpPr/>
          <p:nvPr/>
        </p:nvSpPr>
        <p:spPr>
          <a:xfrm>
            <a:off x="6156360" y="4581360"/>
            <a:ext cx="71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5076720" y="4653000"/>
            <a:ext cx="476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1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4932360" y="486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4"/>
          <p:cNvSpPr/>
          <p:nvPr/>
        </p:nvSpPr>
        <p:spPr>
          <a:xfrm>
            <a:off x="5003640" y="5300640"/>
            <a:ext cx="3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5794200" y="5330880"/>
            <a:ext cx="362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0"/>
          <p:cNvSpPr/>
          <p:nvPr/>
        </p:nvSpPr>
        <p:spPr>
          <a:xfrm>
            <a:off x="6156360" y="5300640"/>
            <a:ext cx="71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57"/>
          <p:cNvSpPr/>
          <p:nvPr/>
        </p:nvSpPr>
        <p:spPr>
          <a:xfrm>
            <a:off x="179280" y="2133720"/>
            <a:ext cx="712800" cy="595080"/>
          </a:xfrm>
          <a:custGeom>
            <a:avLst/>
            <a:gdLst>
              <a:gd name="textAreaLeft" fmla="*/ 0 w 712800"/>
              <a:gd name="textAreaRight" fmla="*/ 713160 w 7128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16074" h="13428">
                <a:moveTo>
                  <a:pt x="0" y="9878"/>
                </a:moveTo>
                <a:lnTo>
                  <a:pt x="3033" y="5009"/>
                </a:lnTo>
                <a:lnTo>
                  <a:pt x="4897" y="9995"/>
                </a:lnTo>
                <a:lnTo>
                  <a:pt x="5158" y="9602"/>
                </a:lnTo>
                <a:lnTo>
                  <a:pt x="5424" y="9214"/>
                </a:lnTo>
                <a:lnTo>
                  <a:pt x="5696" y="8830"/>
                </a:lnTo>
                <a:lnTo>
                  <a:pt x="5974" y="8453"/>
                </a:lnTo>
                <a:lnTo>
                  <a:pt x="6258" y="8079"/>
                </a:lnTo>
                <a:lnTo>
                  <a:pt x="6548" y="7710"/>
                </a:lnTo>
                <a:lnTo>
                  <a:pt x="7145" y="6986"/>
                </a:lnTo>
                <a:lnTo>
                  <a:pt x="7452" y="6632"/>
                </a:lnTo>
                <a:lnTo>
                  <a:pt x="7764" y="6282"/>
                </a:lnTo>
                <a:lnTo>
                  <a:pt x="8406" y="5599"/>
                </a:lnTo>
                <a:lnTo>
                  <a:pt x="8732" y="5264"/>
                </a:lnTo>
                <a:lnTo>
                  <a:pt x="9067" y="4935"/>
                </a:lnTo>
                <a:lnTo>
                  <a:pt x="9406" y="4612"/>
                </a:lnTo>
                <a:lnTo>
                  <a:pt x="9750" y="4296"/>
                </a:lnTo>
                <a:lnTo>
                  <a:pt x="10098" y="3984"/>
                </a:lnTo>
                <a:lnTo>
                  <a:pt x="10453" y="3677"/>
                </a:lnTo>
                <a:lnTo>
                  <a:pt x="11175" y="3079"/>
                </a:lnTo>
                <a:lnTo>
                  <a:pt x="11544" y="2790"/>
                </a:lnTo>
                <a:lnTo>
                  <a:pt x="11917" y="2506"/>
                </a:lnTo>
                <a:lnTo>
                  <a:pt x="12296" y="2227"/>
                </a:lnTo>
                <a:lnTo>
                  <a:pt x="12677" y="1955"/>
                </a:lnTo>
                <a:lnTo>
                  <a:pt x="13065" y="1688"/>
                </a:lnTo>
                <a:lnTo>
                  <a:pt x="13456" y="1429"/>
                </a:lnTo>
                <a:lnTo>
                  <a:pt x="13853" y="1176"/>
                </a:lnTo>
                <a:lnTo>
                  <a:pt x="14252" y="928"/>
                </a:lnTo>
                <a:lnTo>
                  <a:pt x="14657" y="687"/>
                </a:lnTo>
                <a:lnTo>
                  <a:pt x="15065" y="452"/>
                </a:lnTo>
                <a:lnTo>
                  <a:pt x="15478" y="222"/>
                </a:lnTo>
                <a:lnTo>
                  <a:pt x="15896" y="0"/>
                </a:lnTo>
                <a:lnTo>
                  <a:pt x="16074" y="204"/>
                </a:lnTo>
                <a:lnTo>
                  <a:pt x="15609" y="494"/>
                </a:lnTo>
                <a:lnTo>
                  <a:pt x="15150" y="796"/>
                </a:lnTo>
                <a:lnTo>
                  <a:pt x="14698" y="1104"/>
                </a:lnTo>
                <a:lnTo>
                  <a:pt x="14256" y="1424"/>
                </a:lnTo>
                <a:lnTo>
                  <a:pt x="13819" y="1751"/>
                </a:lnTo>
                <a:lnTo>
                  <a:pt x="13389" y="2087"/>
                </a:lnTo>
                <a:lnTo>
                  <a:pt x="12968" y="2431"/>
                </a:lnTo>
                <a:lnTo>
                  <a:pt x="12555" y="2786"/>
                </a:lnTo>
                <a:lnTo>
                  <a:pt x="12149" y="3145"/>
                </a:lnTo>
                <a:lnTo>
                  <a:pt x="11750" y="3515"/>
                </a:lnTo>
                <a:lnTo>
                  <a:pt x="11360" y="3893"/>
                </a:lnTo>
                <a:lnTo>
                  <a:pt x="10979" y="4279"/>
                </a:lnTo>
                <a:lnTo>
                  <a:pt x="10606" y="4673"/>
                </a:lnTo>
                <a:lnTo>
                  <a:pt x="10240" y="5073"/>
                </a:lnTo>
                <a:lnTo>
                  <a:pt x="9884" y="5481"/>
                </a:lnTo>
                <a:lnTo>
                  <a:pt x="9537" y="5896"/>
                </a:lnTo>
                <a:lnTo>
                  <a:pt x="9196" y="6319"/>
                </a:lnTo>
                <a:lnTo>
                  <a:pt x="8868" y="6749"/>
                </a:lnTo>
                <a:lnTo>
                  <a:pt x="8546" y="7186"/>
                </a:lnTo>
                <a:lnTo>
                  <a:pt x="8234" y="7629"/>
                </a:lnTo>
                <a:lnTo>
                  <a:pt x="7932" y="8079"/>
                </a:lnTo>
                <a:lnTo>
                  <a:pt x="7637" y="8537"/>
                </a:lnTo>
                <a:lnTo>
                  <a:pt x="7355" y="9000"/>
                </a:lnTo>
                <a:lnTo>
                  <a:pt x="7079" y="9469"/>
                </a:lnTo>
                <a:lnTo>
                  <a:pt x="6814" y="9944"/>
                </a:lnTo>
                <a:lnTo>
                  <a:pt x="6559" y="10423"/>
                </a:lnTo>
                <a:lnTo>
                  <a:pt x="6315" y="10911"/>
                </a:lnTo>
                <a:lnTo>
                  <a:pt x="6080" y="11403"/>
                </a:lnTo>
                <a:lnTo>
                  <a:pt x="5856" y="11903"/>
                </a:lnTo>
                <a:lnTo>
                  <a:pt x="5641" y="12406"/>
                </a:lnTo>
                <a:lnTo>
                  <a:pt x="5437" y="12913"/>
                </a:lnTo>
                <a:lnTo>
                  <a:pt x="5242" y="13428"/>
                </a:lnTo>
                <a:lnTo>
                  <a:pt x="1706" y="8206"/>
                </a:lnTo>
                <a:lnTo>
                  <a:pt x="319" y="10431"/>
                </a:lnTo>
                <a:lnTo>
                  <a:pt x="0" y="9878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49400" y="133200"/>
            <a:ext cx="8847000" cy="213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In a chemistry experiment, the reaction time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is directly proportional to the mas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of the compound pres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en the mass is 3 grams the reaction time is 0.2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rite a formula which links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m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, in the form </a:t>
            </a:r>
            <a:r>
              <a:rPr b="1" i="1" lang="en-GB" sz="22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cc"/>
                </a:solidFill>
                <a:latin typeface="Tahoma"/>
              </a:rPr>
              <a:t>=</a:t>
            </a:r>
            <a:r>
              <a:rPr b="1" lang="en-GB" sz="2200" spc="-1" strike="noStrike">
                <a:solidFill>
                  <a:srgbClr val="0000cc"/>
                </a:solidFill>
                <a:latin typeface="Tahoma"/>
              </a:rPr>
              <a:t>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What is the reaction time when the mass is 8 gra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1"/>
          <p:cNvSpPr/>
          <p:nvPr/>
        </p:nvSpPr>
        <p:spPr>
          <a:xfrm>
            <a:off x="1463760" y="3062160"/>
            <a:ext cx="152280" cy="777960"/>
          </a:xfrm>
          <a:prstGeom prst="upArrow">
            <a:avLst>
              <a:gd name="adj1" fmla="val 50000"/>
              <a:gd name="adj2" fmla="val 127719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911880" y="38052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87948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4"/>
          <p:cNvSpPr/>
          <p:nvPr/>
        </p:nvSpPr>
        <p:spPr>
          <a:xfrm>
            <a:off x="1390680" y="2771640"/>
            <a:ext cx="282600" cy="193680"/>
          </a:xfrm>
          <a:custGeom>
            <a:avLst/>
            <a:gdLst>
              <a:gd name="textAreaLeft" fmla="*/ 0 w 282600"/>
              <a:gd name="textAreaRight" fmla="*/ 282960 w 282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6420" h="11188">
                <a:moveTo>
                  <a:pt x="16420" y="11090"/>
                </a:moveTo>
                <a:lnTo>
                  <a:pt x="16420" y="10149"/>
                </a:lnTo>
                <a:lnTo>
                  <a:pt x="16289" y="10170"/>
                </a:lnTo>
                <a:lnTo>
                  <a:pt x="16148" y="10187"/>
                </a:lnTo>
                <a:lnTo>
                  <a:pt x="16005" y="10196"/>
                </a:lnTo>
                <a:lnTo>
                  <a:pt x="15876" y="10198"/>
                </a:lnTo>
                <a:lnTo>
                  <a:pt x="15710" y="10194"/>
                </a:lnTo>
                <a:lnTo>
                  <a:pt x="15548" y="10182"/>
                </a:lnTo>
                <a:lnTo>
                  <a:pt x="15389" y="10160"/>
                </a:lnTo>
                <a:lnTo>
                  <a:pt x="15233" y="10130"/>
                </a:lnTo>
                <a:lnTo>
                  <a:pt x="15080" y="10092"/>
                </a:lnTo>
                <a:lnTo>
                  <a:pt x="14930" y="10046"/>
                </a:lnTo>
                <a:lnTo>
                  <a:pt x="14783" y="9991"/>
                </a:lnTo>
                <a:lnTo>
                  <a:pt x="14639" y="9927"/>
                </a:lnTo>
                <a:lnTo>
                  <a:pt x="14497" y="9856"/>
                </a:lnTo>
                <a:lnTo>
                  <a:pt x="14359" y="9779"/>
                </a:lnTo>
                <a:lnTo>
                  <a:pt x="14221" y="9696"/>
                </a:lnTo>
                <a:lnTo>
                  <a:pt x="14085" y="9608"/>
                </a:lnTo>
                <a:lnTo>
                  <a:pt x="13952" y="9513"/>
                </a:lnTo>
                <a:lnTo>
                  <a:pt x="13821" y="9414"/>
                </a:lnTo>
                <a:lnTo>
                  <a:pt x="13691" y="9307"/>
                </a:lnTo>
                <a:lnTo>
                  <a:pt x="13564" y="9195"/>
                </a:lnTo>
                <a:lnTo>
                  <a:pt x="13314" y="8959"/>
                </a:lnTo>
                <a:lnTo>
                  <a:pt x="13072" y="8707"/>
                </a:lnTo>
                <a:lnTo>
                  <a:pt x="12838" y="8439"/>
                </a:lnTo>
                <a:lnTo>
                  <a:pt x="12612" y="8157"/>
                </a:lnTo>
                <a:lnTo>
                  <a:pt x="12392" y="7862"/>
                </a:lnTo>
                <a:lnTo>
                  <a:pt x="12178" y="7559"/>
                </a:lnTo>
                <a:lnTo>
                  <a:pt x="11972" y="7249"/>
                </a:lnTo>
                <a:lnTo>
                  <a:pt x="11771" y="6931"/>
                </a:lnTo>
                <a:lnTo>
                  <a:pt x="10609" y="5124"/>
                </a:lnTo>
                <a:lnTo>
                  <a:pt x="10814" y="4684"/>
                </a:lnTo>
                <a:lnTo>
                  <a:pt x="11035" y="4255"/>
                </a:lnTo>
                <a:lnTo>
                  <a:pt x="11151" y="4044"/>
                </a:lnTo>
                <a:lnTo>
                  <a:pt x="11271" y="3836"/>
                </a:lnTo>
                <a:lnTo>
                  <a:pt x="11396" y="3631"/>
                </a:lnTo>
                <a:lnTo>
                  <a:pt x="11523" y="3429"/>
                </a:lnTo>
                <a:lnTo>
                  <a:pt x="11656" y="3230"/>
                </a:lnTo>
                <a:lnTo>
                  <a:pt x="11791" y="3039"/>
                </a:lnTo>
                <a:lnTo>
                  <a:pt x="11932" y="2855"/>
                </a:lnTo>
                <a:lnTo>
                  <a:pt x="12077" y="2677"/>
                </a:lnTo>
                <a:lnTo>
                  <a:pt x="12226" y="2504"/>
                </a:lnTo>
                <a:lnTo>
                  <a:pt x="12379" y="2340"/>
                </a:lnTo>
                <a:lnTo>
                  <a:pt x="12537" y="2181"/>
                </a:lnTo>
                <a:lnTo>
                  <a:pt x="12698" y="2030"/>
                </a:lnTo>
                <a:lnTo>
                  <a:pt x="12863" y="1885"/>
                </a:lnTo>
                <a:lnTo>
                  <a:pt x="13033" y="1748"/>
                </a:lnTo>
                <a:lnTo>
                  <a:pt x="13206" y="1617"/>
                </a:lnTo>
                <a:lnTo>
                  <a:pt x="13384" y="1495"/>
                </a:lnTo>
                <a:lnTo>
                  <a:pt x="13566" y="1380"/>
                </a:lnTo>
                <a:lnTo>
                  <a:pt x="13751" y="1271"/>
                </a:lnTo>
                <a:lnTo>
                  <a:pt x="13940" y="1172"/>
                </a:lnTo>
                <a:lnTo>
                  <a:pt x="14132" y="1078"/>
                </a:lnTo>
                <a:lnTo>
                  <a:pt x="14329" y="994"/>
                </a:lnTo>
                <a:lnTo>
                  <a:pt x="14528" y="921"/>
                </a:lnTo>
                <a:lnTo>
                  <a:pt x="14731" y="859"/>
                </a:lnTo>
                <a:lnTo>
                  <a:pt x="14939" y="808"/>
                </a:lnTo>
                <a:lnTo>
                  <a:pt x="15149" y="768"/>
                </a:lnTo>
                <a:lnTo>
                  <a:pt x="15363" y="740"/>
                </a:lnTo>
                <a:lnTo>
                  <a:pt x="15581" y="723"/>
                </a:lnTo>
                <a:lnTo>
                  <a:pt x="15802" y="718"/>
                </a:lnTo>
                <a:lnTo>
                  <a:pt x="15961" y="722"/>
                </a:lnTo>
                <a:lnTo>
                  <a:pt x="16117" y="736"/>
                </a:lnTo>
                <a:lnTo>
                  <a:pt x="16270" y="760"/>
                </a:lnTo>
                <a:lnTo>
                  <a:pt x="16420" y="794"/>
                </a:lnTo>
                <a:lnTo>
                  <a:pt x="16420" y="100"/>
                </a:lnTo>
                <a:lnTo>
                  <a:pt x="16225" y="56"/>
                </a:lnTo>
                <a:lnTo>
                  <a:pt x="16036" y="25"/>
                </a:lnTo>
                <a:lnTo>
                  <a:pt x="15842" y="6"/>
                </a:lnTo>
                <a:lnTo>
                  <a:pt x="15628" y="0"/>
                </a:lnTo>
                <a:lnTo>
                  <a:pt x="15389" y="6"/>
                </a:lnTo>
                <a:lnTo>
                  <a:pt x="15155" y="22"/>
                </a:lnTo>
                <a:lnTo>
                  <a:pt x="14923" y="49"/>
                </a:lnTo>
                <a:lnTo>
                  <a:pt x="14698" y="86"/>
                </a:lnTo>
                <a:lnTo>
                  <a:pt x="14476" y="136"/>
                </a:lnTo>
                <a:lnTo>
                  <a:pt x="14258" y="195"/>
                </a:lnTo>
                <a:lnTo>
                  <a:pt x="14044" y="265"/>
                </a:lnTo>
                <a:lnTo>
                  <a:pt x="13836" y="346"/>
                </a:lnTo>
                <a:lnTo>
                  <a:pt x="13631" y="437"/>
                </a:lnTo>
                <a:lnTo>
                  <a:pt x="13429" y="534"/>
                </a:lnTo>
                <a:lnTo>
                  <a:pt x="13231" y="639"/>
                </a:lnTo>
                <a:lnTo>
                  <a:pt x="13038" y="752"/>
                </a:lnTo>
                <a:lnTo>
                  <a:pt x="12848" y="871"/>
                </a:lnTo>
                <a:lnTo>
                  <a:pt x="12662" y="998"/>
                </a:lnTo>
                <a:lnTo>
                  <a:pt x="12480" y="1132"/>
                </a:lnTo>
                <a:lnTo>
                  <a:pt x="12303" y="1273"/>
                </a:lnTo>
                <a:lnTo>
                  <a:pt x="12128" y="1422"/>
                </a:lnTo>
                <a:lnTo>
                  <a:pt x="11960" y="1576"/>
                </a:lnTo>
                <a:lnTo>
                  <a:pt x="11794" y="1735"/>
                </a:lnTo>
                <a:lnTo>
                  <a:pt x="11635" y="1901"/>
                </a:lnTo>
                <a:lnTo>
                  <a:pt x="11479" y="2072"/>
                </a:lnTo>
                <a:lnTo>
                  <a:pt x="11329" y="2250"/>
                </a:lnTo>
                <a:lnTo>
                  <a:pt x="11182" y="2433"/>
                </a:lnTo>
                <a:lnTo>
                  <a:pt x="11041" y="2622"/>
                </a:lnTo>
                <a:lnTo>
                  <a:pt x="10770" y="3011"/>
                </a:lnTo>
                <a:lnTo>
                  <a:pt x="10513" y="3412"/>
                </a:lnTo>
                <a:lnTo>
                  <a:pt x="10269" y="3826"/>
                </a:lnTo>
                <a:lnTo>
                  <a:pt x="10040" y="4253"/>
                </a:lnTo>
                <a:lnTo>
                  <a:pt x="9471" y="3387"/>
                </a:lnTo>
                <a:lnTo>
                  <a:pt x="9241" y="3047"/>
                </a:lnTo>
                <a:lnTo>
                  <a:pt x="8998" y="2717"/>
                </a:lnTo>
                <a:lnTo>
                  <a:pt x="8741" y="2398"/>
                </a:lnTo>
                <a:lnTo>
                  <a:pt x="8470" y="2090"/>
                </a:lnTo>
                <a:lnTo>
                  <a:pt x="8329" y="1941"/>
                </a:lnTo>
                <a:lnTo>
                  <a:pt x="8185" y="1795"/>
                </a:lnTo>
                <a:lnTo>
                  <a:pt x="8038" y="1654"/>
                </a:lnTo>
                <a:lnTo>
                  <a:pt x="7889" y="1518"/>
                </a:lnTo>
                <a:lnTo>
                  <a:pt x="7736" y="1385"/>
                </a:lnTo>
                <a:lnTo>
                  <a:pt x="7579" y="1258"/>
                </a:lnTo>
                <a:lnTo>
                  <a:pt x="7420" y="1134"/>
                </a:lnTo>
                <a:lnTo>
                  <a:pt x="7258" y="1015"/>
                </a:lnTo>
                <a:lnTo>
                  <a:pt x="7093" y="900"/>
                </a:lnTo>
                <a:lnTo>
                  <a:pt x="6925" y="792"/>
                </a:lnTo>
                <a:lnTo>
                  <a:pt x="6754" y="689"/>
                </a:lnTo>
                <a:lnTo>
                  <a:pt x="6581" y="594"/>
                </a:lnTo>
                <a:lnTo>
                  <a:pt x="6405" y="504"/>
                </a:lnTo>
                <a:lnTo>
                  <a:pt x="6226" y="421"/>
                </a:lnTo>
                <a:lnTo>
                  <a:pt x="6045" y="343"/>
                </a:lnTo>
                <a:lnTo>
                  <a:pt x="5861" y="272"/>
                </a:lnTo>
                <a:lnTo>
                  <a:pt x="5673" y="209"/>
                </a:lnTo>
                <a:lnTo>
                  <a:pt x="5483" y="153"/>
                </a:lnTo>
                <a:lnTo>
                  <a:pt x="5290" y="107"/>
                </a:lnTo>
                <a:lnTo>
                  <a:pt x="5094" y="69"/>
                </a:lnTo>
                <a:lnTo>
                  <a:pt x="4895" y="39"/>
                </a:lnTo>
                <a:lnTo>
                  <a:pt x="4693" y="18"/>
                </a:lnTo>
                <a:lnTo>
                  <a:pt x="4487" y="4"/>
                </a:lnTo>
                <a:lnTo>
                  <a:pt x="4279" y="0"/>
                </a:lnTo>
                <a:lnTo>
                  <a:pt x="4028" y="8"/>
                </a:lnTo>
                <a:lnTo>
                  <a:pt x="3786" y="31"/>
                </a:lnTo>
                <a:lnTo>
                  <a:pt x="3549" y="68"/>
                </a:lnTo>
                <a:lnTo>
                  <a:pt x="3320" y="121"/>
                </a:lnTo>
                <a:lnTo>
                  <a:pt x="3098" y="189"/>
                </a:lnTo>
                <a:lnTo>
                  <a:pt x="2883" y="271"/>
                </a:lnTo>
                <a:lnTo>
                  <a:pt x="2674" y="370"/>
                </a:lnTo>
                <a:lnTo>
                  <a:pt x="2473" y="483"/>
                </a:lnTo>
                <a:lnTo>
                  <a:pt x="2279" y="608"/>
                </a:lnTo>
                <a:lnTo>
                  <a:pt x="2092" y="743"/>
                </a:lnTo>
                <a:lnTo>
                  <a:pt x="1912" y="887"/>
                </a:lnTo>
                <a:lnTo>
                  <a:pt x="1741" y="1041"/>
                </a:lnTo>
                <a:lnTo>
                  <a:pt x="1576" y="1205"/>
                </a:lnTo>
                <a:lnTo>
                  <a:pt x="1418" y="1378"/>
                </a:lnTo>
                <a:lnTo>
                  <a:pt x="1269" y="1561"/>
                </a:lnTo>
                <a:lnTo>
                  <a:pt x="1126" y="1754"/>
                </a:lnTo>
                <a:lnTo>
                  <a:pt x="991" y="1955"/>
                </a:lnTo>
                <a:lnTo>
                  <a:pt x="865" y="2163"/>
                </a:lnTo>
                <a:lnTo>
                  <a:pt x="747" y="2376"/>
                </a:lnTo>
                <a:lnTo>
                  <a:pt x="637" y="2597"/>
                </a:lnTo>
                <a:lnTo>
                  <a:pt x="536" y="2824"/>
                </a:lnTo>
                <a:lnTo>
                  <a:pt x="444" y="3058"/>
                </a:lnTo>
                <a:lnTo>
                  <a:pt x="361" y="3297"/>
                </a:lnTo>
                <a:lnTo>
                  <a:pt x="285" y="3544"/>
                </a:lnTo>
                <a:lnTo>
                  <a:pt x="218" y="3795"/>
                </a:lnTo>
                <a:lnTo>
                  <a:pt x="160" y="4048"/>
                </a:lnTo>
                <a:lnTo>
                  <a:pt x="111" y="4303"/>
                </a:lnTo>
                <a:lnTo>
                  <a:pt x="72" y="4560"/>
                </a:lnTo>
                <a:lnTo>
                  <a:pt x="40" y="4818"/>
                </a:lnTo>
                <a:lnTo>
                  <a:pt x="19" y="5079"/>
                </a:lnTo>
                <a:lnTo>
                  <a:pt x="5" y="5341"/>
                </a:lnTo>
                <a:lnTo>
                  <a:pt x="0" y="5606"/>
                </a:lnTo>
                <a:lnTo>
                  <a:pt x="5" y="5865"/>
                </a:lnTo>
                <a:lnTo>
                  <a:pt x="19" y="6124"/>
                </a:lnTo>
                <a:lnTo>
                  <a:pt x="40" y="6381"/>
                </a:lnTo>
                <a:lnTo>
                  <a:pt x="72" y="6637"/>
                </a:lnTo>
                <a:lnTo>
                  <a:pt x="111" y="6893"/>
                </a:lnTo>
                <a:lnTo>
                  <a:pt x="160" y="7149"/>
                </a:lnTo>
                <a:lnTo>
                  <a:pt x="218" y="7402"/>
                </a:lnTo>
                <a:lnTo>
                  <a:pt x="285" y="7657"/>
                </a:lnTo>
                <a:lnTo>
                  <a:pt x="360" y="7906"/>
                </a:lnTo>
                <a:lnTo>
                  <a:pt x="443" y="8148"/>
                </a:lnTo>
                <a:lnTo>
                  <a:pt x="533" y="8383"/>
                </a:lnTo>
                <a:lnTo>
                  <a:pt x="631" y="8610"/>
                </a:lnTo>
                <a:lnTo>
                  <a:pt x="737" y="8830"/>
                </a:lnTo>
                <a:lnTo>
                  <a:pt x="851" y="9043"/>
                </a:lnTo>
                <a:lnTo>
                  <a:pt x="972" y="9248"/>
                </a:lnTo>
                <a:lnTo>
                  <a:pt x="1101" y="9446"/>
                </a:lnTo>
                <a:lnTo>
                  <a:pt x="1238" y="9636"/>
                </a:lnTo>
                <a:lnTo>
                  <a:pt x="1383" y="9817"/>
                </a:lnTo>
                <a:lnTo>
                  <a:pt x="1535" y="9989"/>
                </a:lnTo>
                <a:lnTo>
                  <a:pt x="1695" y="10150"/>
                </a:lnTo>
                <a:lnTo>
                  <a:pt x="1862" y="10303"/>
                </a:lnTo>
                <a:lnTo>
                  <a:pt x="2038" y="10445"/>
                </a:lnTo>
                <a:lnTo>
                  <a:pt x="2221" y="10580"/>
                </a:lnTo>
                <a:lnTo>
                  <a:pt x="2412" y="10705"/>
                </a:lnTo>
                <a:lnTo>
                  <a:pt x="2610" y="10818"/>
                </a:lnTo>
                <a:lnTo>
                  <a:pt x="2815" y="10917"/>
                </a:lnTo>
                <a:lnTo>
                  <a:pt x="3029" y="10999"/>
                </a:lnTo>
                <a:lnTo>
                  <a:pt x="3249" y="11067"/>
                </a:lnTo>
                <a:lnTo>
                  <a:pt x="3477" y="11119"/>
                </a:lnTo>
                <a:lnTo>
                  <a:pt x="3712" y="11157"/>
                </a:lnTo>
                <a:lnTo>
                  <a:pt x="3954" y="11180"/>
                </a:lnTo>
                <a:lnTo>
                  <a:pt x="4204" y="11188"/>
                </a:lnTo>
                <a:lnTo>
                  <a:pt x="4443" y="11182"/>
                </a:lnTo>
                <a:lnTo>
                  <a:pt x="4678" y="11165"/>
                </a:lnTo>
                <a:lnTo>
                  <a:pt x="4908" y="11139"/>
                </a:lnTo>
                <a:lnTo>
                  <a:pt x="5134" y="11101"/>
                </a:lnTo>
                <a:lnTo>
                  <a:pt x="5356" y="11052"/>
                </a:lnTo>
                <a:lnTo>
                  <a:pt x="5574" y="10993"/>
                </a:lnTo>
                <a:lnTo>
                  <a:pt x="5787" y="10922"/>
                </a:lnTo>
                <a:lnTo>
                  <a:pt x="5997" y="10842"/>
                </a:lnTo>
                <a:lnTo>
                  <a:pt x="6202" y="10751"/>
                </a:lnTo>
                <a:lnTo>
                  <a:pt x="6404" y="10654"/>
                </a:lnTo>
                <a:lnTo>
                  <a:pt x="6601" y="10548"/>
                </a:lnTo>
                <a:lnTo>
                  <a:pt x="6795" y="10436"/>
                </a:lnTo>
                <a:lnTo>
                  <a:pt x="6984" y="10317"/>
                </a:lnTo>
                <a:lnTo>
                  <a:pt x="7170" y="10190"/>
                </a:lnTo>
                <a:lnTo>
                  <a:pt x="7351" y="10055"/>
                </a:lnTo>
                <a:lnTo>
                  <a:pt x="7530" y="9915"/>
                </a:lnTo>
                <a:lnTo>
                  <a:pt x="7704" y="9766"/>
                </a:lnTo>
                <a:lnTo>
                  <a:pt x="7874" y="9612"/>
                </a:lnTo>
                <a:lnTo>
                  <a:pt x="8040" y="9453"/>
                </a:lnTo>
                <a:lnTo>
                  <a:pt x="8201" y="9287"/>
                </a:lnTo>
                <a:lnTo>
                  <a:pt x="8358" y="9116"/>
                </a:lnTo>
                <a:lnTo>
                  <a:pt x="8511" y="8938"/>
                </a:lnTo>
                <a:lnTo>
                  <a:pt x="8659" y="8755"/>
                </a:lnTo>
                <a:lnTo>
                  <a:pt x="8804" y="8566"/>
                </a:lnTo>
                <a:lnTo>
                  <a:pt x="8943" y="8373"/>
                </a:lnTo>
                <a:lnTo>
                  <a:pt x="9080" y="8177"/>
                </a:lnTo>
                <a:lnTo>
                  <a:pt x="9212" y="7978"/>
                </a:lnTo>
                <a:lnTo>
                  <a:pt x="9341" y="7776"/>
                </a:lnTo>
                <a:lnTo>
                  <a:pt x="9466" y="7571"/>
                </a:lnTo>
                <a:lnTo>
                  <a:pt x="9587" y="7361"/>
                </a:lnTo>
                <a:lnTo>
                  <a:pt x="9704" y="7150"/>
                </a:lnTo>
                <a:lnTo>
                  <a:pt x="9817" y="6935"/>
                </a:lnTo>
                <a:lnTo>
                  <a:pt x="10386" y="7825"/>
                </a:lnTo>
                <a:lnTo>
                  <a:pt x="10614" y="8156"/>
                </a:lnTo>
                <a:lnTo>
                  <a:pt x="10856" y="8480"/>
                </a:lnTo>
                <a:lnTo>
                  <a:pt x="11109" y="8799"/>
                </a:lnTo>
                <a:lnTo>
                  <a:pt x="11375" y="9111"/>
                </a:lnTo>
                <a:lnTo>
                  <a:pt x="11513" y="9263"/>
                </a:lnTo>
                <a:lnTo>
                  <a:pt x="11654" y="9409"/>
                </a:lnTo>
                <a:lnTo>
                  <a:pt x="11798" y="9551"/>
                </a:lnTo>
                <a:lnTo>
                  <a:pt x="11947" y="9689"/>
                </a:lnTo>
                <a:lnTo>
                  <a:pt x="12098" y="9820"/>
                </a:lnTo>
                <a:lnTo>
                  <a:pt x="12253" y="9948"/>
                </a:lnTo>
                <a:lnTo>
                  <a:pt x="12412" y="10070"/>
                </a:lnTo>
                <a:lnTo>
                  <a:pt x="12575" y="10187"/>
                </a:lnTo>
                <a:lnTo>
                  <a:pt x="12740" y="10298"/>
                </a:lnTo>
                <a:lnTo>
                  <a:pt x="12909" y="10403"/>
                </a:lnTo>
                <a:lnTo>
                  <a:pt x="13079" y="10503"/>
                </a:lnTo>
                <a:lnTo>
                  <a:pt x="13255" y="10597"/>
                </a:lnTo>
                <a:lnTo>
                  <a:pt x="13432" y="10686"/>
                </a:lnTo>
                <a:lnTo>
                  <a:pt x="13613" y="10768"/>
                </a:lnTo>
                <a:lnTo>
                  <a:pt x="13797" y="10845"/>
                </a:lnTo>
                <a:lnTo>
                  <a:pt x="13984" y="10916"/>
                </a:lnTo>
                <a:lnTo>
                  <a:pt x="14174" y="10979"/>
                </a:lnTo>
                <a:lnTo>
                  <a:pt x="14366" y="11035"/>
                </a:lnTo>
                <a:lnTo>
                  <a:pt x="14561" y="11081"/>
                </a:lnTo>
                <a:lnTo>
                  <a:pt x="14759" y="11119"/>
                </a:lnTo>
                <a:lnTo>
                  <a:pt x="14960" y="11149"/>
                </a:lnTo>
                <a:lnTo>
                  <a:pt x="15164" y="11170"/>
                </a:lnTo>
                <a:lnTo>
                  <a:pt x="15370" y="11183"/>
                </a:lnTo>
                <a:lnTo>
                  <a:pt x="15579" y="11188"/>
                </a:lnTo>
                <a:lnTo>
                  <a:pt x="15808" y="11182"/>
                </a:lnTo>
                <a:lnTo>
                  <a:pt x="16023" y="11163"/>
                </a:lnTo>
                <a:lnTo>
                  <a:pt x="16228" y="11132"/>
                </a:lnTo>
                <a:lnTo>
                  <a:pt x="16420" y="11090"/>
                </a:lnTo>
                <a:close/>
                <a:moveTo>
                  <a:pt x="9240" y="6074"/>
                </a:moveTo>
                <a:lnTo>
                  <a:pt x="9139" y="6295"/>
                </a:lnTo>
                <a:lnTo>
                  <a:pt x="9034" y="6514"/>
                </a:lnTo>
                <a:lnTo>
                  <a:pt x="8925" y="6730"/>
                </a:lnTo>
                <a:lnTo>
                  <a:pt x="8811" y="6942"/>
                </a:lnTo>
                <a:lnTo>
                  <a:pt x="8693" y="7153"/>
                </a:lnTo>
                <a:lnTo>
                  <a:pt x="8570" y="7360"/>
                </a:lnTo>
                <a:lnTo>
                  <a:pt x="8444" y="7565"/>
                </a:lnTo>
                <a:lnTo>
                  <a:pt x="8313" y="7768"/>
                </a:lnTo>
                <a:lnTo>
                  <a:pt x="8178" y="7965"/>
                </a:lnTo>
                <a:lnTo>
                  <a:pt x="8041" y="8157"/>
                </a:lnTo>
                <a:lnTo>
                  <a:pt x="7899" y="8343"/>
                </a:lnTo>
                <a:lnTo>
                  <a:pt x="7754" y="8521"/>
                </a:lnTo>
                <a:lnTo>
                  <a:pt x="7605" y="8695"/>
                </a:lnTo>
                <a:lnTo>
                  <a:pt x="7453" y="8861"/>
                </a:lnTo>
                <a:lnTo>
                  <a:pt x="7297" y="9022"/>
                </a:lnTo>
                <a:lnTo>
                  <a:pt x="7139" y="9176"/>
                </a:lnTo>
                <a:lnTo>
                  <a:pt x="6976" y="9324"/>
                </a:lnTo>
                <a:lnTo>
                  <a:pt x="6808" y="9463"/>
                </a:lnTo>
                <a:lnTo>
                  <a:pt x="6637" y="9594"/>
                </a:lnTo>
                <a:lnTo>
                  <a:pt x="6462" y="9718"/>
                </a:lnTo>
                <a:lnTo>
                  <a:pt x="6281" y="9833"/>
                </a:lnTo>
                <a:lnTo>
                  <a:pt x="6097" y="9939"/>
                </a:lnTo>
                <a:lnTo>
                  <a:pt x="5910" y="10038"/>
                </a:lnTo>
                <a:lnTo>
                  <a:pt x="5716" y="10128"/>
                </a:lnTo>
                <a:lnTo>
                  <a:pt x="5520" y="10209"/>
                </a:lnTo>
                <a:lnTo>
                  <a:pt x="5320" y="10280"/>
                </a:lnTo>
                <a:lnTo>
                  <a:pt x="5117" y="10340"/>
                </a:lnTo>
                <a:lnTo>
                  <a:pt x="4910" y="10388"/>
                </a:lnTo>
                <a:lnTo>
                  <a:pt x="4700" y="10426"/>
                </a:lnTo>
                <a:lnTo>
                  <a:pt x="4486" y="10453"/>
                </a:lnTo>
                <a:lnTo>
                  <a:pt x="4268" y="10469"/>
                </a:lnTo>
                <a:lnTo>
                  <a:pt x="4048" y="10474"/>
                </a:lnTo>
                <a:lnTo>
                  <a:pt x="3846" y="10468"/>
                </a:lnTo>
                <a:lnTo>
                  <a:pt x="3649" y="10449"/>
                </a:lnTo>
                <a:lnTo>
                  <a:pt x="3458" y="10417"/>
                </a:lnTo>
                <a:lnTo>
                  <a:pt x="3272" y="10373"/>
                </a:lnTo>
                <a:lnTo>
                  <a:pt x="3090" y="10315"/>
                </a:lnTo>
                <a:lnTo>
                  <a:pt x="2914" y="10245"/>
                </a:lnTo>
                <a:lnTo>
                  <a:pt x="2742" y="10162"/>
                </a:lnTo>
                <a:lnTo>
                  <a:pt x="2576" y="10067"/>
                </a:lnTo>
                <a:lnTo>
                  <a:pt x="2416" y="9961"/>
                </a:lnTo>
                <a:lnTo>
                  <a:pt x="2262" y="9847"/>
                </a:lnTo>
                <a:lnTo>
                  <a:pt x="2115" y="9724"/>
                </a:lnTo>
                <a:lnTo>
                  <a:pt x="1973" y="9594"/>
                </a:lnTo>
                <a:lnTo>
                  <a:pt x="1840" y="9456"/>
                </a:lnTo>
                <a:lnTo>
                  <a:pt x="1711" y="9309"/>
                </a:lnTo>
                <a:lnTo>
                  <a:pt x="1590" y="9154"/>
                </a:lnTo>
                <a:lnTo>
                  <a:pt x="1476" y="8992"/>
                </a:lnTo>
                <a:lnTo>
                  <a:pt x="1368" y="8821"/>
                </a:lnTo>
                <a:lnTo>
                  <a:pt x="1265" y="8645"/>
                </a:lnTo>
                <a:lnTo>
                  <a:pt x="1170" y="8461"/>
                </a:lnTo>
                <a:lnTo>
                  <a:pt x="1081" y="8271"/>
                </a:lnTo>
                <a:lnTo>
                  <a:pt x="996" y="8075"/>
                </a:lnTo>
                <a:lnTo>
                  <a:pt x="919" y="7871"/>
                </a:lnTo>
                <a:lnTo>
                  <a:pt x="848" y="7662"/>
                </a:lnTo>
                <a:lnTo>
                  <a:pt x="784" y="7446"/>
                </a:lnTo>
                <a:lnTo>
                  <a:pt x="725" y="7226"/>
                </a:lnTo>
                <a:lnTo>
                  <a:pt x="675" y="7002"/>
                </a:lnTo>
                <a:lnTo>
                  <a:pt x="633" y="6776"/>
                </a:lnTo>
                <a:lnTo>
                  <a:pt x="598" y="6547"/>
                </a:lnTo>
                <a:lnTo>
                  <a:pt x="571" y="6315"/>
                </a:lnTo>
                <a:lnTo>
                  <a:pt x="552" y="6081"/>
                </a:lnTo>
                <a:lnTo>
                  <a:pt x="540" y="5844"/>
                </a:lnTo>
                <a:lnTo>
                  <a:pt x="536" y="5604"/>
                </a:lnTo>
                <a:lnTo>
                  <a:pt x="540" y="5377"/>
                </a:lnTo>
                <a:lnTo>
                  <a:pt x="552" y="5152"/>
                </a:lnTo>
                <a:lnTo>
                  <a:pt x="571" y="4931"/>
                </a:lnTo>
                <a:lnTo>
                  <a:pt x="598" y="4711"/>
                </a:lnTo>
                <a:lnTo>
                  <a:pt x="633" y="4494"/>
                </a:lnTo>
                <a:lnTo>
                  <a:pt x="675" y="4281"/>
                </a:lnTo>
                <a:lnTo>
                  <a:pt x="725" y="4069"/>
                </a:lnTo>
                <a:lnTo>
                  <a:pt x="784" y="3861"/>
                </a:lnTo>
                <a:lnTo>
                  <a:pt x="848" y="3658"/>
                </a:lnTo>
                <a:lnTo>
                  <a:pt x="919" y="3459"/>
                </a:lnTo>
                <a:lnTo>
                  <a:pt x="996" y="3267"/>
                </a:lnTo>
                <a:lnTo>
                  <a:pt x="1081" y="3083"/>
                </a:lnTo>
                <a:lnTo>
                  <a:pt x="1170" y="2903"/>
                </a:lnTo>
                <a:lnTo>
                  <a:pt x="1265" y="2730"/>
                </a:lnTo>
                <a:lnTo>
                  <a:pt x="1368" y="2563"/>
                </a:lnTo>
                <a:lnTo>
                  <a:pt x="1476" y="2403"/>
                </a:lnTo>
                <a:lnTo>
                  <a:pt x="1590" y="2249"/>
                </a:lnTo>
                <a:lnTo>
                  <a:pt x="1710" y="2104"/>
                </a:lnTo>
                <a:lnTo>
                  <a:pt x="1835" y="1966"/>
                </a:lnTo>
                <a:lnTo>
                  <a:pt x="1967" y="1837"/>
                </a:lnTo>
                <a:lnTo>
                  <a:pt x="2104" y="1716"/>
                </a:lnTo>
                <a:lnTo>
                  <a:pt x="2248" y="1603"/>
                </a:lnTo>
                <a:lnTo>
                  <a:pt x="2397" y="1498"/>
                </a:lnTo>
                <a:lnTo>
                  <a:pt x="2551" y="1402"/>
                </a:lnTo>
                <a:lnTo>
                  <a:pt x="2711" y="1314"/>
                </a:lnTo>
                <a:lnTo>
                  <a:pt x="2877" y="1239"/>
                </a:lnTo>
                <a:lnTo>
                  <a:pt x="3047" y="1175"/>
                </a:lnTo>
                <a:lnTo>
                  <a:pt x="3222" y="1123"/>
                </a:lnTo>
                <a:lnTo>
                  <a:pt x="3403" y="1082"/>
                </a:lnTo>
                <a:lnTo>
                  <a:pt x="3587" y="1054"/>
                </a:lnTo>
                <a:lnTo>
                  <a:pt x="3777" y="1036"/>
                </a:lnTo>
                <a:lnTo>
                  <a:pt x="3974" y="1031"/>
                </a:lnTo>
                <a:lnTo>
                  <a:pt x="4139" y="1035"/>
                </a:lnTo>
                <a:lnTo>
                  <a:pt x="4301" y="1047"/>
                </a:lnTo>
                <a:lnTo>
                  <a:pt x="4460" y="1069"/>
                </a:lnTo>
                <a:lnTo>
                  <a:pt x="4617" y="1099"/>
                </a:lnTo>
                <a:lnTo>
                  <a:pt x="4770" y="1137"/>
                </a:lnTo>
                <a:lnTo>
                  <a:pt x="4919" y="1183"/>
                </a:lnTo>
                <a:lnTo>
                  <a:pt x="5066" y="1238"/>
                </a:lnTo>
                <a:lnTo>
                  <a:pt x="5210" y="1302"/>
                </a:lnTo>
                <a:lnTo>
                  <a:pt x="5351" y="1373"/>
                </a:lnTo>
                <a:lnTo>
                  <a:pt x="5491" y="1449"/>
                </a:lnTo>
                <a:lnTo>
                  <a:pt x="5627" y="1531"/>
                </a:lnTo>
                <a:lnTo>
                  <a:pt x="5763" y="1617"/>
                </a:lnTo>
                <a:lnTo>
                  <a:pt x="5896" y="1710"/>
                </a:lnTo>
                <a:lnTo>
                  <a:pt x="6028" y="1807"/>
                </a:lnTo>
                <a:lnTo>
                  <a:pt x="6158" y="1911"/>
                </a:lnTo>
                <a:lnTo>
                  <a:pt x="6285" y="2020"/>
                </a:lnTo>
                <a:lnTo>
                  <a:pt x="6411" y="2133"/>
                </a:lnTo>
                <a:lnTo>
                  <a:pt x="6534" y="2251"/>
                </a:lnTo>
                <a:lnTo>
                  <a:pt x="6655" y="2374"/>
                </a:lnTo>
                <a:lnTo>
                  <a:pt x="6774" y="2501"/>
                </a:lnTo>
                <a:lnTo>
                  <a:pt x="7004" y="2770"/>
                </a:lnTo>
                <a:lnTo>
                  <a:pt x="7225" y="3058"/>
                </a:lnTo>
                <a:lnTo>
                  <a:pt x="7654" y="3658"/>
                </a:lnTo>
                <a:lnTo>
                  <a:pt x="8079" y="4269"/>
                </a:lnTo>
                <a:lnTo>
                  <a:pt x="9240" y="607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1792440" y="2587680"/>
            <a:ext cx="36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44:54Z</dcterms:created>
  <dc:creator>Tom</dc:creator>
  <dc:description/>
  <dc:language>en-US</dc:language>
  <cp:lastModifiedBy>HBC</cp:lastModifiedBy>
  <dcterms:modified xsi:type="dcterms:W3CDTF">2013-05-19T16:40:02Z</dcterms:modified>
  <cp:revision>33</cp:revision>
  <dc:subject/>
  <dc:title>Slide 1</dc:title>
</cp:coreProperties>
</file>