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41B-AEA1-42B6-A92D-AE0A1FDD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924-88BD-4F87-852D-CF68DA93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7EE-4EF3-44D2-9AD0-21D94E6E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187-B17F-4760-8975-EF8DAE28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9B8-FA54-4A8F-BA37-A6080866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830-7416-4B62-80FE-4247D5EA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909-E210-449F-8B26-4CE02786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D83-2778-410A-A0B0-375F981B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938-185F-43C9-A19E-5FD1B0CE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D15-099B-4CE1-AC64-85D7DCA4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E41-BE94-4180-B5C4-70ACAE67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07F-99D4-402E-AA85-26177334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B94BE-7096-4A79-8FDC-0E09276C079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40B15-C7F4-4656-BA6A-C8C7EC65AE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9.wmf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PROCAL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7"/>
          <p:cNvSpPr/>
          <p:nvPr/>
        </p:nvSpPr>
        <p:spPr>
          <a:xfrm>
            <a:off x="4962600" y="49719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9"/>
          <p:cNvSpPr/>
          <p:nvPr/>
        </p:nvSpPr>
        <p:spPr>
          <a:xfrm>
            <a:off x="4668840" y="48387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0"/>
          <p:cNvSpPr/>
          <p:nvPr/>
        </p:nvSpPr>
        <p:spPr>
          <a:xfrm>
            <a:off x="5106960" y="51181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1"/>
          <p:cNvSpPr/>
          <p:nvPr/>
        </p:nvSpPr>
        <p:spPr>
          <a:xfrm>
            <a:off x="5394240" y="6273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2"/>
          <p:cNvSpPr/>
          <p:nvPr/>
        </p:nvSpPr>
        <p:spPr>
          <a:xfrm>
            <a:off x="5248440" y="54100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3"/>
          <p:cNvSpPr/>
          <p:nvPr/>
        </p:nvSpPr>
        <p:spPr>
          <a:xfrm>
            <a:off x="6400800" y="42609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5"/>
          <p:cNvSpPr/>
          <p:nvPr/>
        </p:nvSpPr>
        <p:spPr>
          <a:xfrm>
            <a:off x="7262640" y="43894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6"/>
          <p:cNvSpPr/>
          <p:nvPr/>
        </p:nvSpPr>
        <p:spPr>
          <a:xfrm>
            <a:off x="6114960" y="41148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7"/>
          <p:cNvSpPr/>
          <p:nvPr/>
        </p:nvSpPr>
        <p:spPr>
          <a:xfrm>
            <a:off x="5970600" y="39736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8"/>
          <p:cNvSpPr/>
          <p:nvPr/>
        </p:nvSpPr>
        <p:spPr>
          <a:xfrm>
            <a:off x="5819760" y="368604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9"/>
          <p:cNvSpPr/>
          <p:nvPr/>
        </p:nvSpPr>
        <p:spPr>
          <a:xfrm>
            <a:off x="5676840" y="28116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34920" y="1766880"/>
          <a:ext cx="6764400" cy="743040"/>
        </p:xfrm>
        <a:graphic>
          <a:graphicData uri="http://schemas.openxmlformats.org/drawingml/2006/table">
            <a:tbl>
              <a:tblPr/>
              <a:tblGrid>
                <a:gridCol w="520920"/>
                <a:gridCol w="520560"/>
                <a:gridCol w="519120"/>
                <a:gridCol w="520560"/>
                <a:gridCol w="520920"/>
                <a:gridCol w="520560"/>
                <a:gridCol w="519120"/>
                <a:gridCol w="520920"/>
                <a:gridCol w="520560"/>
                <a:gridCol w="520560"/>
                <a:gridCol w="519120"/>
                <a:gridCol w="520920"/>
                <a:gridCol w="52056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  <p:sp>
        <p:nvSpPr>
          <p:cNvPr id="54" name="TextBox 62"/>
          <p:cNvSpPr/>
          <p:nvPr/>
        </p:nvSpPr>
        <p:spPr>
          <a:xfrm>
            <a:off x="311040" y="12700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mplete the table of value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4098960" y="1160640"/>
          <a:ext cx="685800" cy="58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1160640"/>
                    <a:ext cx="68580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Box 64"/>
          <p:cNvSpPr/>
          <p:nvPr/>
        </p:nvSpPr>
        <p:spPr>
          <a:xfrm>
            <a:off x="4808520" y="1270080"/>
            <a:ext cx="38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draw the graph of th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5"/>
          <p:cNvSpPr/>
          <p:nvPr/>
        </p:nvSpPr>
        <p:spPr>
          <a:xfrm>
            <a:off x="2544840" y="214164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6"/>
          <p:cNvSpPr/>
          <p:nvPr/>
        </p:nvSpPr>
        <p:spPr>
          <a:xfrm>
            <a:off x="3598920" y="21351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7"/>
          <p:cNvSpPr/>
          <p:nvPr/>
        </p:nvSpPr>
        <p:spPr>
          <a:xfrm>
            <a:off x="4618080" y="214776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8"/>
          <p:cNvSpPr/>
          <p:nvPr/>
        </p:nvSpPr>
        <p:spPr>
          <a:xfrm>
            <a:off x="6234120" y="21398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9"/>
          <p:cNvSpPr/>
          <p:nvPr/>
        </p:nvSpPr>
        <p:spPr>
          <a:xfrm>
            <a:off x="6781680" y="21463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0"/>
          <p:cNvSpPr/>
          <p:nvPr/>
        </p:nvSpPr>
        <p:spPr>
          <a:xfrm>
            <a:off x="3944880" y="4894200"/>
            <a:ext cx="1592280" cy="1590840"/>
          </a:xfrm>
          <a:custGeom>
            <a:avLst/>
            <a:gdLst/>
            <a:ahLst/>
            <a:rect l="l" t="t" r="r" b="b"/>
            <a:pathLst>
              <a:path w="1591733" h="1591734">
                <a:moveTo>
                  <a:pt x="0" y="0"/>
                </a:moveTo>
                <a:cubicBezTo>
                  <a:pt x="360539" y="64205"/>
                  <a:pt x="721078" y="128411"/>
                  <a:pt x="914400" y="177800"/>
                </a:cubicBezTo>
                <a:cubicBezTo>
                  <a:pt x="1107722" y="227189"/>
                  <a:pt x="1094316" y="252590"/>
                  <a:pt x="1159933" y="296334"/>
                </a:cubicBezTo>
                <a:cubicBezTo>
                  <a:pt x="1225550" y="340078"/>
                  <a:pt x="1260828" y="367595"/>
                  <a:pt x="1308100" y="440267"/>
                </a:cubicBezTo>
                <a:cubicBezTo>
                  <a:pt x="1355372" y="512939"/>
                  <a:pt x="1396294" y="540456"/>
                  <a:pt x="1443566" y="732367"/>
                </a:cubicBezTo>
                <a:cubicBezTo>
                  <a:pt x="1490838" y="924278"/>
                  <a:pt x="1591733" y="1591734"/>
                  <a:pt x="1591733" y="1591734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71"/>
          <p:cNvSpPr/>
          <p:nvPr/>
        </p:nvSpPr>
        <p:spPr>
          <a:xfrm>
            <a:off x="5821200" y="3027240"/>
            <a:ext cx="1587600" cy="1578240"/>
          </a:xfrm>
          <a:custGeom>
            <a:avLst/>
            <a:gdLst/>
            <a:ahLst/>
            <a:rect l="l" t="t" r="r" b="b"/>
            <a:pathLst>
              <a:path w="1587500" h="1579034">
                <a:moveTo>
                  <a:pt x="0" y="0"/>
                </a:moveTo>
                <a:cubicBezTo>
                  <a:pt x="45861" y="339372"/>
                  <a:pt x="91722" y="678745"/>
                  <a:pt x="139700" y="872067"/>
                </a:cubicBezTo>
                <a:cubicBezTo>
                  <a:pt x="187678" y="1065389"/>
                  <a:pt x="239184" y="1087967"/>
                  <a:pt x="287867" y="1159934"/>
                </a:cubicBezTo>
                <a:cubicBezTo>
                  <a:pt x="336550" y="1231901"/>
                  <a:pt x="358422" y="1255184"/>
                  <a:pt x="431800" y="1303867"/>
                </a:cubicBezTo>
                <a:cubicBezTo>
                  <a:pt x="505178" y="1352550"/>
                  <a:pt x="535517" y="1406173"/>
                  <a:pt x="728134" y="1452034"/>
                </a:cubicBezTo>
                <a:cubicBezTo>
                  <a:pt x="920751" y="1497895"/>
                  <a:pt x="1587500" y="1579034"/>
                  <a:pt x="1587500" y="1579034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5862600" y="2600280"/>
          <a:ext cx="68580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2600" y="2600280"/>
                    <a:ext cx="6858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Box 75"/>
          <p:cNvSpPr/>
          <p:nvPr/>
        </p:nvSpPr>
        <p:spPr>
          <a:xfrm>
            <a:off x="934920" y="3610080"/>
            <a:ext cx="2409840" cy="1191240"/>
          </a:xfrm>
          <a:prstGeom prst="rect">
            <a:avLst/>
          </a:prstGeom>
          <a:gradFill rotWithShape="0">
            <a:gsLst>
              <a:gs pos="0">
                <a:srgbClr val="7ebfff"/>
              </a:gs>
              <a:gs pos="100000">
                <a:srgbClr val="d9eb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15375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valu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because 12 ÷ 0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3"/>
          <p:cNvGrpSpPr/>
          <p:nvPr/>
        </p:nvGrpSpPr>
        <p:grpSpPr>
          <a:xfrm>
            <a:off x="3657600" y="2473200"/>
            <a:ext cx="4354560" cy="4167720"/>
            <a:chOff x="3657600" y="2473200"/>
            <a:chExt cx="4354560" cy="4167720"/>
          </a:xfrm>
        </p:grpSpPr>
        <p:grpSp>
          <p:nvGrpSpPr>
            <p:cNvPr id="69" name="Group 73"/>
            <p:cNvGrpSpPr/>
            <p:nvPr/>
          </p:nvGrpSpPr>
          <p:grpSpPr>
            <a:xfrm>
              <a:off x="3657600" y="2743920"/>
              <a:ext cx="4354560" cy="3897000"/>
              <a:chOff x="3657600" y="2743920"/>
              <a:chExt cx="4354560" cy="3897000"/>
            </a:xfrm>
          </p:grpSpPr>
          <p:grpSp>
            <p:nvGrpSpPr>
              <p:cNvPr id="70" name="Group 46"/>
              <p:cNvGrpSpPr/>
              <p:nvPr/>
            </p:nvGrpSpPr>
            <p:grpSpPr>
              <a:xfrm>
                <a:off x="3657600" y="2743920"/>
                <a:ext cx="4354560" cy="3897000"/>
                <a:chOff x="3657600" y="2743920"/>
                <a:chExt cx="4354560" cy="3897000"/>
              </a:xfrm>
            </p:grpSpPr>
            <p:grpSp>
              <p:nvGrpSpPr>
                <p:cNvPr id="71" name="Group 2"/>
                <p:cNvGrpSpPr/>
                <p:nvPr/>
              </p:nvGrpSpPr>
              <p:grpSpPr>
                <a:xfrm>
                  <a:off x="3953880" y="2743920"/>
                  <a:ext cx="3744000" cy="3850200"/>
                  <a:chOff x="3953880" y="2743920"/>
                  <a:chExt cx="3744000" cy="3850200"/>
                </a:xfrm>
              </p:grpSpPr>
              <p:sp>
                <p:nvSpPr>
                  <p:cNvPr id="72" name="Line 3"/>
                  <p:cNvSpPr/>
                  <p:nvPr/>
                </p:nvSpPr>
                <p:spPr>
                  <a:xfrm>
                    <a:off x="3953880" y="303192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Line 4"/>
                  <p:cNvSpPr/>
                  <p:nvPr/>
                </p:nvSpPr>
                <p:spPr>
                  <a:xfrm>
                    <a:off x="3953880" y="313632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5"/>
                  <p:cNvSpPr/>
                  <p:nvPr/>
                </p:nvSpPr>
                <p:spPr>
                  <a:xfrm>
                    <a:off x="3953880" y="331992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Line 6"/>
                  <p:cNvSpPr/>
                  <p:nvPr/>
                </p:nvSpPr>
                <p:spPr>
                  <a:xfrm>
                    <a:off x="3953880" y="360828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Line 7"/>
                  <p:cNvSpPr/>
                  <p:nvPr/>
                </p:nvSpPr>
                <p:spPr>
                  <a:xfrm>
                    <a:off x="3953880" y="389628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8"/>
                  <p:cNvSpPr/>
                  <p:nvPr/>
                </p:nvSpPr>
                <p:spPr>
                  <a:xfrm>
                    <a:off x="3953880" y="418464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Line 9"/>
                  <p:cNvSpPr/>
                  <p:nvPr/>
                </p:nvSpPr>
                <p:spPr>
                  <a:xfrm>
                    <a:off x="3953880" y="620172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10"/>
                  <p:cNvSpPr/>
                  <p:nvPr/>
                </p:nvSpPr>
                <p:spPr>
                  <a:xfrm>
                    <a:off x="3953880" y="591372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11"/>
                  <p:cNvSpPr/>
                  <p:nvPr/>
                </p:nvSpPr>
                <p:spPr>
                  <a:xfrm>
                    <a:off x="3953880" y="447264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12"/>
                  <p:cNvSpPr/>
                  <p:nvPr/>
                </p:nvSpPr>
                <p:spPr>
                  <a:xfrm>
                    <a:off x="3953880" y="4761000"/>
                    <a:ext cx="3456000" cy="0"/>
                  </a:xfrm>
                  <a:prstGeom prst="line">
                    <a:avLst/>
                  </a:prstGeom>
                  <a:ln w="1908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13"/>
                  <p:cNvSpPr/>
                  <p:nvPr/>
                </p:nvSpPr>
                <p:spPr>
                  <a:xfrm>
                    <a:off x="3953880" y="504900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14"/>
                  <p:cNvSpPr/>
                  <p:nvPr/>
                </p:nvSpPr>
                <p:spPr>
                  <a:xfrm>
                    <a:off x="3953880" y="533736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15"/>
                  <p:cNvSpPr/>
                  <p:nvPr/>
                </p:nvSpPr>
                <p:spPr>
                  <a:xfrm>
                    <a:off x="3953880" y="562536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Line 16"/>
                  <p:cNvSpPr/>
                  <p:nvPr/>
                </p:nvSpPr>
                <p:spPr>
                  <a:xfrm>
                    <a:off x="3953880" y="6490080"/>
                    <a:ext cx="3456000" cy="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Line 17"/>
                  <p:cNvSpPr/>
                  <p:nvPr/>
                </p:nvSpPr>
                <p:spPr>
                  <a:xfrm>
                    <a:off x="424152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Line 18"/>
                  <p:cNvSpPr/>
                  <p:nvPr/>
                </p:nvSpPr>
                <p:spPr>
                  <a:xfrm>
                    <a:off x="452952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19"/>
                  <p:cNvSpPr/>
                  <p:nvPr/>
                </p:nvSpPr>
                <p:spPr>
                  <a:xfrm>
                    <a:off x="481752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20"/>
                  <p:cNvSpPr/>
                  <p:nvPr/>
                </p:nvSpPr>
                <p:spPr>
                  <a:xfrm>
                    <a:off x="510588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21"/>
                  <p:cNvSpPr/>
                  <p:nvPr/>
                </p:nvSpPr>
                <p:spPr>
                  <a:xfrm>
                    <a:off x="539388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22"/>
                  <p:cNvSpPr/>
                  <p:nvPr/>
                </p:nvSpPr>
                <p:spPr>
                  <a:xfrm>
                    <a:off x="5681880" y="3031200"/>
                    <a:ext cx="0" cy="3457800"/>
                  </a:xfrm>
                  <a:prstGeom prst="line">
                    <a:avLst/>
                  </a:prstGeom>
                  <a:ln w="1908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23"/>
                  <p:cNvSpPr/>
                  <p:nvPr/>
                </p:nvSpPr>
                <p:spPr>
                  <a:xfrm>
                    <a:off x="596988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24"/>
                  <p:cNvSpPr/>
                  <p:nvPr/>
                </p:nvSpPr>
                <p:spPr>
                  <a:xfrm>
                    <a:off x="625788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Line 25"/>
                  <p:cNvSpPr/>
                  <p:nvPr/>
                </p:nvSpPr>
                <p:spPr>
                  <a:xfrm>
                    <a:off x="654588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Line 26"/>
                  <p:cNvSpPr/>
                  <p:nvPr/>
                </p:nvSpPr>
                <p:spPr>
                  <a:xfrm>
                    <a:off x="683388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27"/>
                  <p:cNvSpPr/>
                  <p:nvPr/>
                </p:nvSpPr>
                <p:spPr>
                  <a:xfrm>
                    <a:off x="712188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28"/>
                  <p:cNvSpPr/>
                  <p:nvPr/>
                </p:nvSpPr>
                <p:spPr>
                  <a:xfrm>
                    <a:off x="7409880" y="3031200"/>
                    <a:ext cx="0" cy="3457800"/>
                  </a:xfrm>
                  <a:prstGeom prst="line">
                    <a:avLst/>
                  </a:prstGeom>
                  <a:ln w="12600">
                    <a:solidFill>
                      <a:srgbClr val="a5a5a5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29"/>
                  <p:cNvSpPr/>
                  <p:nvPr/>
                </p:nvSpPr>
                <p:spPr>
                  <a:xfrm>
                    <a:off x="3953880" y="4761000"/>
                    <a:ext cx="3744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1440" bIns="-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30"/>
                  <p:cNvSpPr/>
                  <p:nvPr/>
                </p:nvSpPr>
                <p:spPr>
                  <a:xfrm flipV="1">
                    <a:off x="5681880" y="2743920"/>
                    <a:ext cx="0" cy="3746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1440" bIns="9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" name="TextBox 32"/>
                <p:cNvSpPr/>
                <p:nvPr/>
              </p:nvSpPr>
              <p:spPr>
                <a:xfrm>
                  <a:off x="4883760" y="4685040"/>
                  <a:ext cx="61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TextBox 33"/>
                <p:cNvSpPr/>
                <p:nvPr/>
              </p:nvSpPr>
              <p:spPr>
                <a:xfrm>
                  <a:off x="5339880" y="5130720"/>
                  <a:ext cx="59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TextBox 34"/>
                <p:cNvSpPr/>
                <p:nvPr/>
              </p:nvSpPr>
              <p:spPr>
                <a:xfrm>
                  <a:off x="6089760" y="4679640"/>
                  <a:ext cx="358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Box 35"/>
                <p:cNvSpPr/>
                <p:nvPr/>
              </p:nvSpPr>
              <p:spPr>
                <a:xfrm>
                  <a:off x="5394240" y="3999960"/>
                  <a:ext cx="358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TextBox 36"/>
                <p:cNvSpPr/>
                <p:nvPr/>
              </p:nvSpPr>
              <p:spPr>
                <a:xfrm>
                  <a:off x="4323960" y="4685040"/>
                  <a:ext cx="54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Box 37"/>
                <p:cNvSpPr/>
                <p:nvPr/>
              </p:nvSpPr>
              <p:spPr>
                <a:xfrm>
                  <a:off x="5350680" y="5707080"/>
                  <a:ext cx="54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Box 38"/>
                <p:cNvSpPr/>
                <p:nvPr/>
              </p:nvSpPr>
              <p:spPr>
                <a:xfrm>
                  <a:off x="5394240" y="3396600"/>
                  <a:ext cx="54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Box 39"/>
                <p:cNvSpPr/>
                <p:nvPr/>
              </p:nvSpPr>
              <p:spPr>
                <a:xfrm>
                  <a:off x="6688080" y="4685040"/>
                  <a:ext cx="54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TextBox 40"/>
                <p:cNvSpPr/>
                <p:nvPr/>
              </p:nvSpPr>
              <p:spPr>
                <a:xfrm>
                  <a:off x="7187400" y="4685040"/>
                  <a:ext cx="824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TextBox 41"/>
                <p:cNvSpPr/>
                <p:nvPr/>
              </p:nvSpPr>
              <p:spPr>
                <a:xfrm>
                  <a:off x="5339880" y="2847240"/>
                  <a:ext cx="824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42"/>
                <p:cNvSpPr/>
                <p:nvPr/>
              </p:nvSpPr>
              <p:spPr>
                <a:xfrm>
                  <a:off x="3657600" y="4691160"/>
                  <a:ext cx="824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43"/>
                <p:cNvSpPr/>
                <p:nvPr/>
              </p:nvSpPr>
              <p:spPr>
                <a:xfrm>
                  <a:off x="5253120" y="6272640"/>
                  <a:ext cx="824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2" name="Object 4"/>
                <p:cNvGraphicFramePr/>
                <p:nvPr/>
              </p:nvGraphicFramePr>
              <p:xfrm>
                <a:off x="7770960" y="4641480"/>
                <a:ext cx="164880" cy="1778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13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7770960" y="4641480"/>
                          <a:ext cx="164880" cy="177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4" name="TextBox 72"/>
              <p:cNvSpPr/>
              <p:nvPr/>
            </p:nvSpPr>
            <p:spPr>
              <a:xfrm>
                <a:off x="5403960" y="4674240"/>
                <a:ext cx="41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Box 72"/>
            <p:cNvSpPr/>
            <p:nvPr/>
          </p:nvSpPr>
          <p:spPr>
            <a:xfrm>
              <a:off x="5479560" y="247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712800" y="2104920"/>
          <a:ext cx="8024760" cy="951120"/>
        </p:xfrm>
        <a:graphic>
          <a:graphicData uri="http://schemas.openxmlformats.org/drawingml/2006/table">
            <a:tbl>
              <a:tblPr/>
              <a:tblGrid>
                <a:gridCol w="431640"/>
                <a:gridCol w="689040"/>
                <a:gridCol w="690480"/>
                <a:gridCol w="689040"/>
                <a:gridCol w="690840"/>
                <a:gridCol w="688680"/>
                <a:gridCol w="763560"/>
                <a:gridCol w="615960"/>
                <a:gridCol w="690840"/>
                <a:gridCol w="688680"/>
                <a:gridCol w="690840"/>
                <a:gridCol w="695160"/>
              </a:tblGrid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62"/>
          <p:cNvSpPr/>
          <p:nvPr/>
        </p:nvSpPr>
        <p:spPr>
          <a:xfrm>
            <a:off x="244440" y="162072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mplete the table of value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4057560" y="1511280"/>
          <a:ext cx="10414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7560" y="1511280"/>
                    <a:ext cx="1041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Box 64"/>
          <p:cNvSpPr/>
          <p:nvPr/>
        </p:nvSpPr>
        <p:spPr>
          <a:xfrm>
            <a:off x="5030640" y="1620720"/>
            <a:ext cx="38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draw the graph of th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1038240" y="3390840"/>
          <a:ext cx="6984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8240" y="3390840"/>
                    <a:ext cx="69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4"/>
          <p:cNvGraphicFramePr/>
          <p:nvPr/>
        </p:nvGraphicFramePr>
        <p:xfrm>
          <a:off x="2641680" y="3240000"/>
          <a:ext cx="146052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1680" y="3240000"/>
                    <a:ext cx="14605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4780080" y="3386160"/>
          <a:ext cx="6984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0080" y="3386160"/>
                    <a:ext cx="6984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6224760" y="3386160"/>
          <a:ext cx="3553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4760" y="3386160"/>
                    <a:ext cx="3553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1042920" y="4114800"/>
          <a:ext cx="88920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4114800"/>
                    <a:ext cx="8892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8"/>
          <p:cNvGraphicFramePr/>
          <p:nvPr/>
        </p:nvGraphicFramePr>
        <p:xfrm>
          <a:off x="2622600" y="3962520"/>
          <a:ext cx="1854000" cy="57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22600" y="3962520"/>
                    <a:ext cx="1854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9"/>
          <p:cNvGraphicFramePr/>
          <p:nvPr/>
        </p:nvGraphicFramePr>
        <p:xfrm>
          <a:off x="4780080" y="4110120"/>
          <a:ext cx="1104840" cy="22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80080" y="4110120"/>
                    <a:ext cx="1104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0"/>
          <p:cNvGraphicFramePr/>
          <p:nvPr/>
        </p:nvGraphicFramePr>
        <p:xfrm>
          <a:off x="6222960" y="4110120"/>
          <a:ext cx="914400" cy="228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110120"/>
                    <a:ext cx="9144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1"/>
          <p:cNvGraphicFramePr/>
          <p:nvPr/>
        </p:nvGraphicFramePr>
        <p:xfrm>
          <a:off x="1058760" y="4834080"/>
          <a:ext cx="520920" cy="266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58760" y="4834080"/>
                    <a:ext cx="5209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2"/>
          <p:cNvGraphicFramePr/>
          <p:nvPr/>
        </p:nvGraphicFramePr>
        <p:xfrm>
          <a:off x="2637000" y="4681440"/>
          <a:ext cx="1155600" cy="571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0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7000" y="4681440"/>
                    <a:ext cx="1155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4772160" y="4829040"/>
          <a:ext cx="647640" cy="228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72160" y="4829040"/>
                    <a:ext cx="647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4"/>
          <p:cNvGraphicFramePr/>
          <p:nvPr/>
        </p:nvGraphicFramePr>
        <p:xfrm>
          <a:off x="6222960" y="4829040"/>
          <a:ext cx="355680" cy="228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4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22960" y="4829040"/>
                    <a:ext cx="355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5"/>
          <p:cNvGraphicFramePr/>
          <p:nvPr/>
        </p:nvGraphicFramePr>
        <p:xfrm>
          <a:off x="1044720" y="5545080"/>
          <a:ext cx="57132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6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4720" y="5545080"/>
                    <a:ext cx="571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6"/>
          <p:cNvGraphicFramePr/>
          <p:nvPr/>
        </p:nvGraphicFramePr>
        <p:xfrm>
          <a:off x="2639880" y="5392800"/>
          <a:ext cx="1206720" cy="571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8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39880" y="5392800"/>
                    <a:ext cx="12067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7"/>
          <p:cNvGraphicFramePr/>
          <p:nvPr/>
        </p:nvGraphicFramePr>
        <p:xfrm>
          <a:off x="4782960" y="5540400"/>
          <a:ext cx="698760" cy="228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0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82960" y="5540400"/>
                    <a:ext cx="6987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8"/>
          <p:cNvGraphicFramePr/>
          <p:nvPr/>
        </p:nvGraphicFramePr>
        <p:xfrm>
          <a:off x="6224760" y="5540400"/>
          <a:ext cx="431640" cy="228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52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224760" y="5540400"/>
                    <a:ext cx="431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114"/>
          <p:cNvGrpSpPr/>
          <p:nvPr/>
        </p:nvGrpSpPr>
        <p:grpSpPr>
          <a:xfrm>
            <a:off x="4359240" y="2620800"/>
            <a:ext cx="4264200" cy="4146840"/>
            <a:chOff x="4359240" y="2620800"/>
            <a:chExt cx="4264200" cy="4146840"/>
          </a:xfrm>
        </p:grpSpPr>
        <p:grpSp>
          <p:nvGrpSpPr>
            <p:cNvPr id="154" name="Group 111"/>
            <p:cNvGrpSpPr/>
            <p:nvPr/>
          </p:nvGrpSpPr>
          <p:grpSpPr>
            <a:xfrm>
              <a:off x="4359240" y="2620800"/>
              <a:ext cx="4264200" cy="4146840"/>
              <a:chOff x="4359240" y="2620800"/>
              <a:chExt cx="4264200" cy="4146840"/>
            </a:xfrm>
          </p:grpSpPr>
          <p:grpSp>
            <p:nvGrpSpPr>
              <p:cNvPr id="155" name="Group 87"/>
              <p:cNvGrpSpPr/>
              <p:nvPr/>
            </p:nvGrpSpPr>
            <p:grpSpPr>
              <a:xfrm>
                <a:off x="4377960" y="2620800"/>
                <a:ext cx="4245480" cy="4146840"/>
                <a:chOff x="4377960" y="2620800"/>
                <a:chExt cx="4245480" cy="4146840"/>
              </a:xfrm>
            </p:grpSpPr>
            <p:pic>
              <p:nvPicPr>
                <p:cNvPr id="156" name="Picture 7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377960" y="2817360"/>
                  <a:ext cx="4230000" cy="395028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57" name="Straight Arrow Connector 77"/>
                <p:cNvCxnSpPr/>
                <p:nvPr/>
              </p:nvCxnSpPr>
              <p:spPr>
                <a:xfrm flipH="1" flipV="1">
                  <a:off x="6408360" y="2816640"/>
                  <a:ext cx="10080" cy="357300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58" name="Straight Arrow Connector 84"/>
                <p:cNvCxnSpPr/>
                <p:nvPr/>
              </p:nvCxnSpPr>
              <p:spPr>
                <a:xfrm>
                  <a:off x="4571640" y="4678200"/>
                  <a:ext cx="3887280" cy="1800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graphicFrame>
              <p:nvGraphicFramePr>
                <p:cNvPr id="159" name="Object 4"/>
                <p:cNvGraphicFramePr/>
                <p:nvPr/>
              </p:nvGraphicFramePr>
              <p:xfrm>
                <a:off x="8458560" y="4606920"/>
                <a:ext cx="164880" cy="17748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60" name="Object 4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8458560" y="4606920"/>
                          <a:ext cx="164880" cy="177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61" name="Object 5"/>
                <p:cNvGraphicFramePr/>
                <p:nvPr/>
              </p:nvGraphicFramePr>
              <p:xfrm>
                <a:off x="6313320" y="2620800"/>
                <a:ext cx="190440" cy="22860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62" name="Object 5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313320" y="2620800"/>
                          <a:ext cx="190440" cy="228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63" name="TextBox 97"/>
              <p:cNvSpPr/>
              <p:nvPr/>
            </p:nvSpPr>
            <p:spPr>
              <a:xfrm>
                <a:off x="5258160" y="4635720"/>
                <a:ext cx="57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98"/>
              <p:cNvSpPr/>
              <p:nvPr/>
            </p:nvSpPr>
            <p:spPr>
              <a:xfrm>
                <a:off x="5968080" y="5330520"/>
                <a:ext cx="57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99"/>
              <p:cNvSpPr/>
              <p:nvPr/>
            </p:nvSpPr>
            <p:spPr>
              <a:xfrm>
                <a:off x="7149600" y="4635720"/>
                <a:ext cx="57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100"/>
              <p:cNvSpPr/>
              <p:nvPr/>
            </p:nvSpPr>
            <p:spPr>
              <a:xfrm>
                <a:off x="6033960" y="3663720"/>
                <a:ext cx="57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101"/>
              <p:cNvSpPr/>
              <p:nvPr/>
            </p:nvSpPr>
            <p:spPr>
              <a:xfrm>
                <a:off x="4359240" y="46126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Box 102"/>
              <p:cNvSpPr/>
              <p:nvPr/>
            </p:nvSpPr>
            <p:spPr>
              <a:xfrm>
                <a:off x="5967000" y="6184080"/>
                <a:ext cx="72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103"/>
              <p:cNvSpPr/>
              <p:nvPr/>
            </p:nvSpPr>
            <p:spPr>
              <a:xfrm>
                <a:off x="6019200" y="28173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104"/>
              <p:cNvSpPr/>
              <p:nvPr/>
            </p:nvSpPr>
            <p:spPr>
              <a:xfrm>
                <a:off x="8060400" y="4629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Box 113"/>
            <p:cNvSpPr/>
            <p:nvPr/>
          </p:nvSpPr>
          <p:spPr>
            <a:xfrm>
              <a:off x="6100560" y="4629600"/>
              <a:ext cx="38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728640" y="1754280"/>
          <a:ext cx="8075520" cy="950760"/>
        </p:xfrm>
        <a:graphic>
          <a:graphicData uri="http://schemas.openxmlformats.org/drawingml/2006/table">
            <a:tbl>
              <a:tblPr/>
              <a:tblGrid>
                <a:gridCol w="432000"/>
                <a:gridCol w="688680"/>
                <a:gridCol w="690840"/>
                <a:gridCol w="688680"/>
                <a:gridCol w="690840"/>
                <a:gridCol w="688680"/>
                <a:gridCol w="747720"/>
                <a:gridCol w="689040"/>
                <a:gridCol w="690480"/>
                <a:gridCol w="689040"/>
                <a:gridCol w="690840"/>
                <a:gridCol w="6886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add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62"/>
          <p:cNvSpPr/>
          <p:nvPr/>
        </p:nvSpPr>
        <p:spPr>
          <a:xfrm>
            <a:off x="260280" y="12700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mplete the table of value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4073400" y="1160640"/>
          <a:ext cx="1041480" cy="58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73400" y="1160640"/>
                    <a:ext cx="10414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Box 64"/>
          <p:cNvSpPr/>
          <p:nvPr/>
        </p:nvSpPr>
        <p:spPr>
          <a:xfrm>
            <a:off x="5046840" y="1270080"/>
            <a:ext cx="38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draw the graph of th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5"/>
          <p:cNvSpPr/>
          <p:nvPr/>
        </p:nvSpPr>
        <p:spPr>
          <a:xfrm>
            <a:off x="2041560" y="22417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e5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6"/>
          <p:cNvSpPr/>
          <p:nvPr/>
        </p:nvSpPr>
        <p:spPr>
          <a:xfrm>
            <a:off x="3878280" y="2222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e5"/>
                </a:solidFill>
                <a:latin typeface="Arial"/>
              </a:rPr>
              <a:t>11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7"/>
          <p:cNvSpPr/>
          <p:nvPr/>
        </p:nvSpPr>
        <p:spPr>
          <a:xfrm>
            <a:off x="5570640" y="2238480"/>
            <a:ext cx="5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e5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8"/>
          <p:cNvSpPr/>
          <p:nvPr/>
        </p:nvSpPr>
        <p:spPr>
          <a:xfrm>
            <a:off x="7589880" y="2247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e5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8"/>
          <p:cNvSpPr/>
          <p:nvPr/>
        </p:nvSpPr>
        <p:spPr>
          <a:xfrm>
            <a:off x="4906080" y="3892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9"/>
          <p:cNvSpPr/>
          <p:nvPr/>
        </p:nvSpPr>
        <p:spPr>
          <a:xfrm>
            <a:off x="4449600" y="324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0"/>
          <p:cNvSpPr/>
          <p:nvPr/>
        </p:nvSpPr>
        <p:spPr>
          <a:xfrm>
            <a:off x="8079480" y="299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1"/>
          <p:cNvSpPr/>
          <p:nvPr/>
        </p:nvSpPr>
        <p:spPr>
          <a:xfrm>
            <a:off x="6491880" y="3444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2"/>
          <p:cNvSpPr/>
          <p:nvPr/>
        </p:nvSpPr>
        <p:spPr>
          <a:xfrm>
            <a:off x="6935040" y="395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3"/>
          <p:cNvSpPr/>
          <p:nvPr/>
        </p:nvSpPr>
        <p:spPr>
          <a:xfrm>
            <a:off x="6715800" y="3892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4"/>
          <p:cNvSpPr/>
          <p:nvPr/>
        </p:nvSpPr>
        <p:spPr>
          <a:xfrm>
            <a:off x="6049080" y="5433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5"/>
          <p:cNvSpPr/>
          <p:nvPr/>
        </p:nvSpPr>
        <p:spPr>
          <a:xfrm>
            <a:off x="5819040" y="4910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96"/>
          <p:cNvSpPr/>
          <p:nvPr/>
        </p:nvSpPr>
        <p:spPr>
          <a:xfrm>
            <a:off x="5363280" y="4398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5"/>
          <p:cNvSpPr/>
          <p:nvPr/>
        </p:nvSpPr>
        <p:spPr>
          <a:xfrm>
            <a:off x="7615800" y="3551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6"/>
          <p:cNvSpPr/>
          <p:nvPr/>
        </p:nvSpPr>
        <p:spPr>
          <a:xfrm>
            <a:off x="7166880" y="388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09"/>
          <p:cNvSpPr/>
          <p:nvPr/>
        </p:nvSpPr>
        <p:spPr>
          <a:xfrm>
            <a:off x="4597560" y="3449520"/>
            <a:ext cx="1719000" cy="2845080"/>
          </a:xfrm>
          <a:custGeom>
            <a:avLst/>
            <a:gdLst/>
            <a:ahLst/>
            <a:rect l="l" t="t" r="r" b="b"/>
            <a:pathLst>
              <a:path w="1718733" h="2844800">
                <a:moveTo>
                  <a:pt x="0" y="0"/>
                </a:moveTo>
                <a:cubicBezTo>
                  <a:pt x="144639" y="228600"/>
                  <a:pt x="289278" y="457200"/>
                  <a:pt x="440267" y="651933"/>
                </a:cubicBezTo>
                <a:cubicBezTo>
                  <a:pt x="591256" y="846666"/>
                  <a:pt x="905933" y="1168400"/>
                  <a:pt x="905933" y="1168400"/>
                </a:cubicBezTo>
                <a:cubicBezTo>
                  <a:pt x="1059744" y="1337733"/>
                  <a:pt x="1250244" y="1494366"/>
                  <a:pt x="1363133" y="1667933"/>
                </a:cubicBezTo>
                <a:cubicBezTo>
                  <a:pt x="1476022" y="1841500"/>
                  <a:pt x="1524000" y="2013656"/>
                  <a:pt x="1583267" y="2209800"/>
                </a:cubicBezTo>
                <a:cubicBezTo>
                  <a:pt x="1642534" y="2405944"/>
                  <a:pt x="1718733" y="2844800"/>
                  <a:pt x="1718733" y="284480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0"/>
          <p:cNvSpPr/>
          <p:nvPr/>
        </p:nvSpPr>
        <p:spPr>
          <a:xfrm>
            <a:off x="6561000" y="3017880"/>
            <a:ext cx="1660680" cy="1192320"/>
          </a:xfrm>
          <a:custGeom>
            <a:avLst/>
            <a:gdLst/>
            <a:ahLst/>
            <a:rect l="l" t="t" r="r" b="b"/>
            <a:pathLst>
              <a:path w="1659466" h="1190977">
                <a:moveTo>
                  <a:pt x="0" y="0"/>
                </a:moveTo>
                <a:cubicBezTo>
                  <a:pt x="8466" y="213078"/>
                  <a:pt x="16933" y="426156"/>
                  <a:pt x="67733" y="609600"/>
                </a:cubicBezTo>
                <a:cubicBezTo>
                  <a:pt x="118533" y="793044"/>
                  <a:pt x="230011" y="1010355"/>
                  <a:pt x="304800" y="1100666"/>
                </a:cubicBezTo>
                <a:cubicBezTo>
                  <a:pt x="379589" y="1190977"/>
                  <a:pt x="447322" y="1154288"/>
                  <a:pt x="516466" y="1151466"/>
                </a:cubicBezTo>
                <a:cubicBezTo>
                  <a:pt x="585610" y="1148644"/>
                  <a:pt x="608188" y="1148644"/>
                  <a:pt x="719666" y="1083733"/>
                </a:cubicBezTo>
                <a:cubicBezTo>
                  <a:pt x="831144" y="1018822"/>
                  <a:pt x="1028700" y="908756"/>
                  <a:pt x="1185333" y="762000"/>
                </a:cubicBezTo>
                <a:cubicBezTo>
                  <a:pt x="1341966" y="615245"/>
                  <a:pt x="1659466" y="203200"/>
                  <a:pt x="1659466" y="20320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7731000" y="2706840"/>
          <a:ext cx="1041480" cy="58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31000" y="2706840"/>
                    <a:ext cx="10414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Box 112"/>
          <p:cNvSpPr/>
          <p:nvPr/>
        </p:nvSpPr>
        <p:spPr>
          <a:xfrm>
            <a:off x="934920" y="3610080"/>
            <a:ext cx="2409840" cy="1191240"/>
          </a:xfrm>
          <a:prstGeom prst="rect">
            <a:avLst/>
          </a:prstGeom>
          <a:gradFill rotWithShape="0">
            <a:gsLst>
              <a:gs pos="0">
                <a:srgbClr val="7ebfff"/>
              </a:gs>
              <a:gs pos="100000">
                <a:srgbClr val="d9eb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15375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value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because 6 ÷ 0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5:18:01Z</dcterms:created>
  <dc:creator/>
  <dc:description/>
  <dc:language>en-US</dc:language>
  <cp:lastModifiedBy/>
  <dcterms:modified xsi:type="dcterms:W3CDTF">2019-07-15T14:51:26Z</dcterms:modified>
  <cp:revision>1</cp:revision>
  <dc:subject/>
  <dc:title/>
</cp:coreProperties>
</file>